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9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gif" ContentType="image/gif"/>
  <Override PartName="/ppt/media/image18.jpeg" ContentType="image/jpeg"/>
  <Override PartName="/ppt/media/image19.jpeg" ContentType="image/jpeg"/>
  <Override PartName="/ppt/media/image16.jpeg" ContentType="image/jpeg"/>
  <Override PartName="/ppt/media/image1.jpeg" ContentType="image/jpeg"/>
  <Override PartName="/ppt/media/image15.wmf" ContentType="image/x-wmf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EE94-D76F-4E2E-B576-C8CA76C37E92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FAD1-5407-40BE-9BBD-99CCF77A981A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865A-3DA1-4055-A707-3EC7EE64A416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FF95-4EF0-4444-A0D2-B6E7D3908050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B503-76A7-4211-AE40-ADB8600EB1A7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F517-F488-49F5-BFBC-B377350A1188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55A9-686E-4E8B-9262-FB1290CC2F4E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0457-D5BB-429A-8C8B-AB9F80844734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5698-5512-43E5-97C1-28BADE950E86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EC80-B59A-4FDD-8893-C948F7021F1B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9DD2-6746-4E7D-B8AE-DB61BD078877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F11C-E53A-4753-85DF-1BDFF4513B88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27AB-818A-4B43-B41D-B82EACA17A9E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FA30-731D-44B7-B13F-7B8CE622DD3E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4828-5DEB-44A2-8A5B-4AF22C8B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D43B-6CB7-4758-B7E9-BFF76548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7797F-CC39-441C-9218-4BB001B6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B2D46-EA12-42FD-B538-D9C01ABB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DA817-E5C2-400C-AB51-F5B877DC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0D863-1AAA-417C-B743-59612853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F3BBE-2F2D-4DE9-A2AA-67D53421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B9158-DED9-4FE1-B9FA-374F1FFE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FDD65-13CF-405E-8058-E1104EB0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9BC7A-1CDD-49BC-A9B3-89AB0118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D65B2-3BE7-4612-9EA9-E734BFA2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E0FB-94E7-4208-8D43-1FE7EE2F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2D61-EEDB-4374-A98C-720A8E10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B449-E639-4ACB-937B-B9910F61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3710-8F12-4CD6-8A44-DFF413BA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BD87-33A8-4475-9F8B-9F4157FE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E114-FD26-47F5-BBD5-90F8C4C5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C741-6DF5-4AAF-8711-E43AC0DD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69C9-2CF5-4763-B24D-E1280779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57A3-B58B-4A8E-BCF2-6D0A2A78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8D5-A41F-4A00-BBDF-01DE8C21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5BBC-D48C-431F-8581-498937E8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2520-FC15-4272-9FDC-208700E1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6A1E-A877-4F6B-8F7D-71716EC3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1768-2FD4-476D-819E-6F5281E5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CCFF-2AD9-40E6-92B2-BC074518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BD90E-2064-477F-AD28-EE2964DF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4A139-F953-4C62-829E-0159D05A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037DC-2A82-495C-82E0-6C0E7BC8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1F319-882F-46D5-AF66-0CB38640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02218-8E29-43D7-8453-3512D5B4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C1B7-07E1-48DD-93DD-EF866215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ADDE6-E840-4686-B777-51BAFE34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D0AA4-97C6-4269-B592-AAE84BDA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E141E-BBE4-415B-9705-BD3CCD35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93CC7-2DCF-4A32-8883-EDD4A3E6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F3BCE-1C25-4D76-A955-8C27109F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40C54-7612-4F17-8D8A-3F02D314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C6FD6-A719-48BA-A6A2-C95E8948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DFA01-7907-4B3D-B810-4BE9212D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44C14-59F9-40CD-93F2-5CBA35F1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E1D35-CBF2-4750-9354-49506219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0779-9C9C-4E47-88E7-F92A9E4E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29336-81DD-4D67-8A32-656E64F3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D09F6-8E4D-49E4-A78E-55356CAC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08A2A-EFAB-436A-88D1-FAD43366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726AA-D6BA-44CC-BCEB-66FCDAC1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6AF78-22C7-45A3-BE72-788E3A3E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175FD-A8C3-4122-A15F-C2F0E969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E25AC-CAA4-48A5-BDBA-3B64CDFE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C6909-3813-4BA7-BC33-5D023404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4FA5E-9945-4A04-8BA3-B804CBB3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68929-2266-4B79-83CD-C487EDFA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D960-9B29-423B-9626-28E93B7E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470E3-21FD-4E11-83AE-92DD3052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57BDF-9298-4C0A-9502-4366F2FD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A2E4C-A6F4-4D29-A575-5FB3201E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EADA4-87A3-441D-8AC2-0753EE14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961C5-A6E7-4001-9BF9-14421996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2D1B6-FBCA-43FB-85C4-A66454BF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78D27-AB4C-40B7-993B-03CF2631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01C7A-477F-4B29-B038-DA3305F5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ECDA6-3ACF-4DD6-8482-8335F890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5E5FF-DB38-4EEC-BCFF-28221CD5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8548-8D58-44D8-8098-08212DAB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7C194-F000-4338-BD9B-E686859D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85C83-8D83-4A32-8279-58E24018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DB448-7CAF-42AD-B101-FA7D93D5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6C3FD-EB7F-41CF-A25E-6EEADC0C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372A5-DFBA-4CD0-8036-D4CF920E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A9BE8-2901-4498-A3D9-D6810A18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B69B8-B363-4966-8C77-3AB296E0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88245-5980-426B-923E-0625A4C9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415EA-D0DE-4082-932B-40A4E237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DC191-C857-4874-BAC1-2DC24928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D7E4-4C29-47F0-AA13-DEC1AB4A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619EE-F7B1-4A66-B8A9-05B49899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62E85-309F-4EB0-B144-2698A76B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F2E58-B925-4FFA-9272-9EEF7E66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EB2C3-133E-46BF-83C8-AA0FDF80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DD742-6E32-4668-A6AD-BB15DDC6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5FF2D-825A-45F4-A377-4C466441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9E39E-D7CE-4E8D-80B8-DD6453BB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22175-3F56-40C1-9340-DE796929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3C0A8-3B21-4230-96B7-CCAE3E92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29436-0A7C-40DE-803E-2BBA76D5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7E3E-F515-4823-8522-B4769552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4AFD8-74D9-4D62-8947-042753A1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48570-E6EC-4737-BDBA-7CA64485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E657B-2411-4A81-B918-3DA6AA72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A62EE-1866-449E-A60C-B3F0B4F7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E27F5-78B8-4A0B-966A-63F7F3C9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C0210-7188-4555-A156-8E058E5D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06B66-D8C7-48DA-BF47-3FD5E27C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7FE65-1003-4C01-81F7-2B419E4B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7D06E-B96A-4C82-83F4-4B94BF10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9A3F2-3CC7-40BB-B537-66E59FAE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1B6B-77FC-404A-9D6D-92BCD961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694EA-9A73-41C8-A5F8-1BB2ADF3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EC732-90D5-42AE-9898-B0F70792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5B355-6C76-4D41-B6E2-B86E301B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F40DA-28EB-4749-8898-7439DF28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6AFA8-8C90-4F77-AEE8-DD3D7FAE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DFB84-BC2F-438D-992F-721821FF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2043D-FB90-43AB-B852-7FDDF32F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2D2D5-7FC2-4573-AAA1-CCA3C229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67642-F553-43F7-97FD-6025AD7C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6B1BF-E8AA-434E-B789-72E08B70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C859-827F-47A5-9362-7906582487AB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6D98-2851-4B1F-9325-C4F992613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2B8D-5A5F-4D74-BC8F-A32F0096B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2473-D2D9-423C-BDA0-77CAFD661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45B3-BAE4-4AD6-B62A-78605431A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29C5-73BF-47D5-AA3F-56ACF4D2A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716D-362A-43D9-969E-4B0E4024B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656D-F19E-458F-9AFE-63A95145B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2C42-450C-4E9D-9FF6-10384598E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file:///tmp/home/.config/libreoffice/4/user/gallery/foarte%20bine.WAV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tmp/home/.config/libreoffice/4/user/gallery/foarte%20bine.WAV" TargetMode="External"/><Relationship Id="rId3" Type="http://schemas.openxmlformats.org/officeDocument/2006/relationships/hyperlink" Target="file:///tmp/home/.config/libreoffice/4/user/gallery/foarte%20bine.WAV" TargetMode="External"/><Relationship Id="rId4" Type="http://schemas.openxmlformats.org/officeDocument/2006/relationships/hyperlink" Target="file:///tmp/home/.config/libreoffice/4/user/gallery/foarte%20bine.WAV" TargetMode="External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file:///tmp/home/.config/libreoffice/4/user/gallery/foarte%20bine.WAV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file:///tmp/home/.config/libreoffice/4/user/gallery/foarte%20bine.WAV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file:///tmp/home/.config/libreoffice/4/user/gallery/foarte%20bine.WAV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tmp/home/.config/libreoffice/4/user/gallery/foarte%20bine.WAV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file:///tmp/home/.config/libreoffice/4/user/gallery/foarte%20bine.WAV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foarte%20bine.WAV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Dreptunghi 1" descr=""/>
          <p:cNvPicPr/>
          <p:nvPr/>
        </p:nvPicPr>
        <p:blipFill>
          <a:blip r:embed="rId1"/>
          <a:stretch/>
        </p:blipFill>
        <p:spPr>
          <a:xfrm>
            <a:off x="579600" y="469800"/>
            <a:ext cx="7705440" cy="197496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3"/>
          <p:cNvSpPr/>
          <p:nvPr/>
        </p:nvSpPr>
        <p:spPr>
          <a:xfrm>
            <a:off x="457200" y="3429000"/>
            <a:ext cx="7689960" cy="2692440"/>
          </a:xfrm>
          <a:prstGeom prst="rect">
            <a:avLst/>
          </a:prstGeom>
          <a:solidFill>
            <a:srgbClr val="ff47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cc"/>
                </a:solidFill>
                <a:latin typeface="Arial"/>
              </a:rPr>
              <a:t>Politeţea este o monedă care îmbogăţeşte, nu pe cel ce o primeşte, ci pe cel ce o cheltuieş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5" descr="neuville_pictura2"/>
          <p:cNvPicPr/>
          <p:nvPr/>
        </p:nvPicPr>
        <p:blipFill>
          <a:blip r:embed="rId1"/>
          <a:stretch/>
        </p:blipFill>
        <p:spPr>
          <a:xfrm>
            <a:off x="2438280" y="0"/>
            <a:ext cx="3489480" cy="3886200"/>
          </a:xfrm>
          <a:prstGeom prst="rect">
            <a:avLst/>
          </a:prstGeom>
          <a:ln w="0">
            <a:noFill/>
          </a:ln>
        </p:spPr>
      </p:pic>
      <p:sp>
        <p:nvSpPr>
          <p:cNvPr id="443" name="CasetăText 2"/>
          <p:cNvSpPr/>
          <p:nvPr/>
        </p:nvSpPr>
        <p:spPr>
          <a:xfrm>
            <a:off x="646560" y="4038480"/>
            <a:ext cx="7905960" cy="4597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………………………….este profesorul meu de de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Buton acțiune: Particularizare 3"/>
          <p:cNvSpPr/>
          <p:nvPr/>
        </p:nvSpPr>
        <p:spPr>
          <a:xfrm>
            <a:off x="228600" y="5257800"/>
            <a:ext cx="2895480" cy="685800"/>
          </a:xfrm>
          <a:custGeom>
            <a:avLst/>
            <a:gdLst>
              <a:gd name="textAreaLeft" fmla="*/ 44280 w 2895480"/>
              <a:gd name="textAreaRight" fmla="*/ 2851200 w 2895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60" h="21600">
                <a:moveTo>
                  <a:pt x="0" y="0"/>
                </a:moveTo>
                <a:lnTo>
                  <a:pt x="91160" y="0"/>
                </a:lnTo>
                <a:lnTo>
                  <a:pt x="91160" y="21600"/>
                </a:lnTo>
                <a:lnTo>
                  <a:pt x="0" y="21600"/>
                </a:lnTo>
                <a:close/>
              </a:path>
              <a:path fill="lightenLess" w="91160" h="21600">
                <a:moveTo>
                  <a:pt x="0" y="0"/>
                </a:moveTo>
                <a:lnTo>
                  <a:pt x="91160" y="0"/>
                </a:lnTo>
                <a:lnTo>
                  <a:pt x="89760" y="1400"/>
                </a:lnTo>
                <a:lnTo>
                  <a:pt x="1400" y="1400"/>
                </a:lnTo>
                <a:close/>
              </a:path>
              <a:path fill="darken" w="91160" h="21600">
                <a:moveTo>
                  <a:pt x="91160" y="0"/>
                </a:moveTo>
                <a:lnTo>
                  <a:pt x="91160" y="21600"/>
                </a:lnTo>
                <a:lnTo>
                  <a:pt x="89760" y="20200"/>
                </a:lnTo>
                <a:lnTo>
                  <a:pt x="89760" y="1400"/>
                </a:lnTo>
                <a:close/>
              </a:path>
              <a:path fill="darkenLess" w="91160" h="21600">
                <a:moveTo>
                  <a:pt x="91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60" y="20200"/>
                </a:lnTo>
                <a:close/>
              </a:path>
              <a:path fill="lighten" w="91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voast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Buton acțiune: Particularizare 4"/>
          <p:cNvSpPr/>
          <p:nvPr/>
        </p:nvSpPr>
        <p:spPr>
          <a:xfrm>
            <a:off x="3581280" y="52578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ăria 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Buton acțiune: Particularizare 5"/>
          <p:cNvSpPr/>
          <p:nvPr/>
        </p:nvSpPr>
        <p:spPr>
          <a:xfrm>
            <a:off x="5410080" y="52578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9976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Buton acțiune: Particularizare 6">
            <a:hlinkClick r:id="rId2"/>
          </p:cNvPr>
          <p:cNvSpPr/>
          <p:nvPr/>
        </p:nvSpPr>
        <p:spPr>
          <a:xfrm>
            <a:off x="6934320" y="5257800"/>
            <a:ext cx="2057400" cy="685800"/>
          </a:xfrm>
          <a:custGeom>
            <a:avLst/>
            <a:gdLst>
              <a:gd name="textAreaLeft" fmla="*/ 44280 w 2057400"/>
              <a:gd name="textAreaRight" fmla="*/ 2013120 w 2057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4777" h="21600">
                <a:moveTo>
                  <a:pt x="0" y="0"/>
                </a:moveTo>
                <a:lnTo>
                  <a:pt x="64777" y="0"/>
                </a:lnTo>
                <a:lnTo>
                  <a:pt x="64777" y="21600"/>
                </a:lnTo>
                <a:lnTo>
                  <a:pt x="0" y="21600"/>
                </a:lnTo>
                <a:close/>
              </a:path>
              <a:path fill="lightenLess" w="64777" h="21600">
                <a:moveTo>
                  <a:pt x="0" y="0"/>
                </a:moveTo>
                <a:lnTo>
                  <a:pt x="64777" y="0"/>
                </a:lnTo>
                <a:lnTo>
                  <a:pt x="63377" y="1400"/>
                </a:lnTo>
                <a:lnTo>
                  <a:pt x="1400" y="1400"/>
                </a:lnTo>
                <a:close/>
              </a:path>
              <a:path fill="darken" w="64777" h="21600">
                <a:moveTo>
                  <a:pt x="64777" y="0"/>
                </a:moveTo>
                <a:lnTo>
                  <a:pt x="64777" y="21600"/>
                </a:lnTo>
                <a:lnTo>
                  <a:pt x="63377" y="20200"/>
                </a:lnTo>
                <a:lnTo>
                  <a:pt x="63377" y="1400"/>
                </a:lnTo>
                <a:close/>
              </a:path>
              <a:path fill="darkenLess" w="64777" h="21600">
                <a:moveTo>
                  <a:pt x="64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77" y="20200"/>
                </a:lnTo>
                <a:close/>
              </a:path>
              <a:path fill="lighten" w="64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3" descr="Reconstrucţia sălii tronului lui Ştefan cel Mare la Muzeul de istorie din Suceava"/>
          <p:cNvPicPr/>
          <p:nvPr/>
        </p:nvPicPr>
        <p:blipFill>
          <a:blip r:embed="rId1"/>
          <a:stretch/>
        </p:blipFill>
        <p:spPr>
          <a:xfrm>
            <a:off x="2286000" y="0"/>
            <a:ext cx="3962520" cy="36576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449" name="CasetăText 3"/>
          <p:cNvSpPr/>
          <p:nvPr/>
        </p:nvSpPr>
        <p:spPr>
          <a:xfrm>
            <a:off x="566640" y="3886200"/>
            <a:ext cx="7366320" cy="4597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……………………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, oastea este pregătită de lupt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Buton acțiune: Particularizare 4">
            <a:hlinkClick r:id="rId2"/>
          </p:cNvPr>
          <p:cNvSpPr/>
          <p:nvPr/>
        </p:nvSpPr>
        <p:spPr>
          <a:xfrm>
            <a:off x="6248520" y="44197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ăria 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Buton acțiune: Particularizare 5">
            <a:hlinkClick r:id="rId3"/>
          </p:cNvPr>
          <p:cNvSpPr/>
          <p:nvPr/>
        </p:nvSpPr>
        <p:spPr>
          <a:xfrm>
            <a:off x="6248520" y="5257800"/>
            <a:ext cx="2590560" cy="685800"/>
          </a:xfrm>
          <a:custGeom>
            <a:avLst/>
            <a:gdLst>
              <a:gd name="textAreaLeft" fmla="*/ 44280 w 2590560"/>
              <a:gd name="textAreaRight" fmla="*/ 2546280 w 2590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81561" h="21600">
                <a:moveTo>
                  <a:pt x="0" y="0"/>
                </a:moveTo>
                <a:lnTo>
                  <a:pt x="81561" y="0"/>
                </a:lnTo>
                <a:lnTo>
                  <a:pt x="81561" y="21600"/>
                </a:lnTo>
                <a:lnTo>
                  <a:pt x="0" y="21600"/>
                </a:lnTo>
                <a:close/>
              </a:path>
              <a:path fill="lightenLess" w="81561" h="21600">
                <a:moveTo>
                  <a:pt x="0" y="0"/>
                </a:moveTo>
                <a:lnTo>
                  <a:pt x="81561" y="0"/>
                </a:lnTo>
                <a:lnTo>
                  <a:pt x="80161" y="1400"/>
                </a:lnTo>
                <a:lnTo>
                  <a:pt x="1400" y="1400"/>
                </a:lnTo>
                <a:close/>
              </a:path>
              <a:path fill="darken" w="81561" h="21600">
                <a:moveTo>
                  <a:pt x="81561" y="0"/>
                </a:moveTo>
                <a:lnTo>
                  <a:pt x="81561" y="21600"/>
                </a:lnTo>
                <a:lnTo>
                  <a:pt x="80161" y="20200"/>
                </a:lnTo>
                <a:lnTo>
                  <a:pt x="80161" y="1400"/>
                </a:lnTo>
                <a:close/>
              </a:path>
              <a:path fill="darkenLess" w="81561" h="21600">
                <a:moveTo>
                  <a:pt x="815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161" y="20200"/>
                </a:lnTo>
                <a:close/>
              </a:path>
              <a:path fill="lighten" w="815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omnia voastr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Buton acțiune: Particularizare 6"/>
          <p:cNvSpPr/>
          <p:nvPr/>
        </p:nvSpPr>
        <p:spPr>
          <a:xfrm>
            <a:off x="228600" y="5867280"/>
            <a:ext cx="2895480" cy="685800"/>
          </a:xfrm>
          <a:custGeom>
            <a:avLst/>
            <a:gdLst>
              <a:gd name="textAreaLeft" fmla="*/ 44280 w 2895480"/>
              <a:gd name="textAreaRight" fmla="*/ 2851200 w 2895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60" h="21600">
                <a:moveTo>
                  <a:pt x="0" y="0"/>
                </a:moveTo>
                <a:lnTo>
                  <a:pt x="91160" y="0"/>
                </a:lnTo>
                <a:lnTo>
                  <a:pt x="91160" y="21600"/>
                </a:lnTo>
                <a:lnTo>
                  <a:pt x="0" y="21600"/>
                </a:lnTo>
                <a:close/>
              </a:path>
              <a:path fill="lightenLess" w="91160" h="21600">
                <a:moveTo>
                  <a:pt x="0" y="0"/>
                </a:moveTo>
                <a:lnTo>
                  <a:pt x="91160" y="0"/>
                </a:lnTo>
                <a:lnTo>
                  <a:pt x="89760" y="1400"/>
                </a:lnTo>
                <a:lnTo>
                  <a:pt x="1400" y="1400"/>
                </a:lnTo>
                <a:close/>
              </a:path>
              <a:path fill="darken" w="91160" h="21600">
                <a:moveTo>
                  <a:pt x="91160" y="0"/>
                </a:moveTo>
                <a:lnTo>
                  <a:pt x="91160" y="21600"/>
                </a:lnTo>
                <a:lnTo>
                  <a:pt x="89760" y="20200"/>
                </a:lnTo>
                <a:lnTo>
                  <a:pt x="89760" y="1400"/>
                </a:lnTo>
                <a:close/>
              </a:path>
              <a:path fill="darkenLess" w="91160" h="21600">
                <a:moveTo>
                  <a:pt x="91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60" y="20200"/>
                </a:lnTo>
                <a:close/>
              </a:path>
              <a:path fill="lighten" w="91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Buton acțiune: Particularizare 7"/>
          <p:cNvSpPr/>
          <p:nvPr/>
        </p:nvSpPr>
        <p:spPr>
          <a:xfrm>
            <a:off x="304920" y="4876920"/>
            <a:ext cx="2895480" cy="685800"/>
          </a:xfrm>
          <a:custGeom>
            <a:avLst/>
            <a:gdLst>
              <a:gd name="textAreaLeft" fmla="*/ 44280 w 2895480"/>
              <a:gd name="textAreaRight" fmla="*/ 2851200 w 2895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60" h="21600">
                <a:moveTo>
                  <a:pt x="0" y="0"/>
                </a:moveTo>
                <a:lnTo>
                  <a:pt x="91160" y="0"/>
                </a:lnTo>
                <a:lnTo>
                  <a:pt x="91160" y="21600"/>
                </a:lnTo>
                <a:lnTo>
                  <a:pt x="0" y="21600"/>
                </a:lnTo>
                <a:close/>
              </a:path>
              <a:path fill="lightenLess" w="91160" h="21600">
                <a:moveTo>
                  <a:pt x="0" y="0"/>
                </a:moveTo>
                <a:lnTo>
                  <a:pt x="91160" y="0"/>
                </a:lnTo>
                <a:lnTo>
                  <a:pt x="89760" y="1400"/>
                </a:lnTo>
                <a:lnTo>
                  <a:pt x="1400" y="1400"/>
                </a:lnTo>
                <a:close/>
              </a:path>
              <a:path fill="darken" w="91160" h="21600">
                <a:moveTo>
                  <a:pt x="91160" y="0"/>
                </a:moveTo>
                <a:lnTo>
                  <a:pt x="91160" y="21600"/>
                </a:lnTo>
                <a:lnTo>
                  <a:pt x="89760" y="20200"/>
                </a:lnTo>
                <a:lnTo>
                  <a:pt x="89760" y="1400"/>
                </a:lnTo>
                <a:close/>
              </a:path>
              <a:path fill="darkenLess" w="91160" h="21600">
                <a:moveTo>
                  <a:pt x="91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60" y="20200"/>
                </a:lnTo>
                <a:close/>
              </a:path>
              <a:path fill="lighten" w="91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voast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Buton acțiune: Particularizare 8"/>
          <p:cNvSpPr/>
          <p:nvPr/>
        </p:nvSpPr>
        <p:spPr>
          <a:xfrm>
            <a:off x="3657600" y="51055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9976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a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Buton acțiune: Particularizare 9"/>
          <p:cNvSpPr/>
          <p:nvPr/>
        </p:nvSpPr>
        <p:spPr>
          <a:xfrm>
            <a:off x="3657600" y="601992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9976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ătăluţ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Buton acțiune: Particularizare 10">
            <a:hlinkClick r:id="rId4"/>
          </p:cNvPr>
          <p:cNvSpPr/>
          <p:nvPr/>
        </p:nvSpPr>
        <p:spPr>
          <a:xfrm>
            <a:off x="6248520" y="6172200"/>
            <a:ext cx="2057400" cy="685800"/>
          </a:xfrm>
          <a:custGeom>
            <a:avLst/>
            <a:gdLst>
              <a:gd name="textAreaLeft" fmla="*/ 44280 w 2057400"/>
              <a:gd name="textAreaRight" fmla="*/ 2013120 w 2057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4777" h="21600">
                <a:moveTo>
                  <a:pt x="0" y="0"/>
                </a:moveTo>
                <a:lnTo>
                  <a:pt x="64777" y="0"/>
                </a:lnTo>
                <a:lnTo>
                  <a:pt x="64777" y="21600"/>
                </a:lnTo>
                <a:lnTo>
                  <a:pt x="0" y="21600"/>
                </a:lnTo>
                <a:close/>
              </a:path>
              <a:path fill="lightenLess" w="64777" h="21600">
                <a:moveTo>
                  <a:pt x="0" y="0"/>
                </a:moveTo>
                <a:lnTo>
                  <a:pt x="64777" y="0"/>
                </a:lnTo>
                <a:lnTo>
                  <a:pt x="63377" y="1400"/>
                </a:lnTo>
                <a:lnTo>
                  <a:pt x="1400" y="1400"/>
                </a:lnTo>
                <a:close/>
              </a:path>
              <a:path fill="darken" w="64777" h="21600">
                <a:moveTo>
                  <a:pt x="64777" y="0"/>
                </a:moveTo>
                <a:lnTo>
                  <a:pt x="64777" y="21600"/>
                </a:lnTo>
                <a:lnTo>
                  <a:pt x="63377" y="20200"/>
                </a:lnTo>
                <a:lnTo>
                  <a:pt x="63377" y="1400"/>
                </a:lnTo>
                <a:close/>
              </a:path>
              <a:path fill="darkenLess" w="64777" h="21600">
                <a:moveTo>
                  <a:pt x="64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77" y="20200"/>
                </a:lnTo>
                <a:close/>
              </a:path>
              <a:path fill="lighten" w="64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 </a:t>
            </a: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Înălţimea t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7" descr="pediatru_maxim"/>
          <p:cNvPicPr/>
          <p:nvPr/>
        </p:nvPicPr>
        <p:blipFill>
          <a:blip r:embed="rId1"/>
          <a:stretch/>
        </p:blipFill>
        <p:spPr>
          <a:xfrm>
            <a:off x="2209680" y="0"/>
            <a:ext cx="3700440" cy="4495680"/>
          </a:xfrm>
          <a:prstGeom prst="rect">
            <a:avLst/>
          </a:prstGeom>
          <a:ln w="0">
            <a:noFill/>
          </a:ln>
        </p:spPr>
      </p:pic>
      <p:sp>
        <p:nvSpPr>
          <p:cNvPr id="458" name="CasetăText 2"/>
          <p:cNvSpPr/>
          <p:nvPr/>
        </p:nvSpPr>
        <p:spPr>
          <a:xfrm>
            <a:off x="793800" y="4800600"/>
            <a:ext cx="8150040" cy="459720"/>
          </a:xfrm>
          <a:prstGeom prst="rect">
            <a:avLst/>
          </a:prstGeom>
          <a:solidFill>
            <a:srgbClr val="16e9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Datorită …………………..mă voi vindeca în curân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Buton acțiune: Particularizare 3"/>
          <p:cNvSpPr/>
          <p:nvPr/>
        </p:nvSpPr>
        <p:spPr>
          <a:xfrm>
            <a:off x="3808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9976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a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Buton acțiune: Particularizare 5">
            <a:hlinkClick r:id="rId2"/>
          </p:cNvPr>
          <p:cNvSpPr/>
          <p:nvPr/>
        </p:nvSpPr>
        <p:spPr>
          <a:xfrm>
            <a:off x="2819520" y="5638680"/>
            <a:ext cx="2895480" cy="685800"/>
          </a:xfrm>
          <a:custGeom>
            <a:avLst/>
            <a:gdLst>
              <a:gd name="textAreaLeft" fmla="*/ 44280 w 2895480"/>
              <a:gd name="textAreaRight" fmla="*/ 2851200 w 2895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60" h="21600">
                <a:moveTo>
                  <a:pt x="0" y="0"/>
                </a:moveTo>
                <a:lnTo>
                  <a:pt x="91160" y="0"/>
                </a:lnTo>
                <a:lnTo>
                  <a:pt x="91160" y="21600"/>
                </a:lnTo>
                <a:lnTo>
                  <a:pt x="0" y="21600"/>
                </a:lnTo>
                <a:close/>
              </a:path>
              <a:path fill="lightenLess" w="91160" h="21600">
                <a:moveTo>
                  <a:pt x="0" y="0"/>
                </a:moveTo>
                <a:lnTo>
                  <a:pt x="91160" y="0"/>
                </a:lnTo>
                <a:lnTo>
                  <a:pt x="89760" y="1400"/>
                </a:lnTo>
                <a:lnTo>
                  <a:pt x="1400" y="1400"/>
                </a:lnTo>
                <a:close/>
              </a:path>
              <a:path fill="darken" w="91160" h="21600">
                <a:moveTo>
                  <a:pt x="91160" y="0"/>
                </a:moveTo>
                <a:lnTo>
                  <a:pt x="91160" y="21600"/>
                </a:lnTo>
                <a:lnTo>
                  <a:pt x="89760" y="20200"/>
                </a:lnTo>
                <a:lnTo>
                  <a:pt x="89760" y="1400"/>
                </a:lnTo>
                <a:close/>
              </a:path>
              <a:path fill="darkenLess" w="91160" h="21600">
                <a:moveTo>
                  <a:pt x="91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60" y="20200"/>
                </a:lnTo>
                <a:close/>
              </a:path>
              <a:path fill="lighten" w="91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voast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Dreptunghi 8"/>
          <p:cNvSpPr/>
          <p:nvPr/>
        </p:nvSpPr>
        <p:spPr>
          <a:xfrm>
            <a:off x="990720" y="5029200"/>
            <a:ext cx="380880" cy="76320"/>
          </a:xfrm>
          <a:prstGeom prst="rect">
            <a:avLst/>
          </a:prstGeom>
          <a:solidFill>
            <a:srgbClr val="008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Buton acțiune: Particularizare 9"/>
          <p:cNvSpPr/>
          <p:nvPr/>
        </p:nvSpPr>
        <p:spPr>
          <a:xfrm>
            <a:off x="6248520" y="5638680"/>
            <a:ext cx="2895480" cy="685800"/>
          </a:xfrm>
          <a:custGeom>
            <a:avLst/>
            <a:gdLst>
              <a:gd name="textAreaLeft" fmla="*/ 44280 w 2895480"/>
              <a:gd name="textAreaRight" fmla="*/ 2851200 w 2895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60" h="21600">
                <a:moveTo>
                  <a:pt x="0" y="0"/>
                </a:moveTo>
                <a:lnTo>
                  <a:pt x="91160" y="0"/>
                </a:lnTo>
                <a:lnTo>
                  <a:pt x="91160" y="21600"/>
                </a:lnTo>
                <a:lnTo>
                  <a:pt x="0" y="21600"/>
                </a:lnTo>
                <a:close/>
              </a:path>
              <a:path fill="lightenLess" w="91160" h="21600">
                <a:moveTo>
                  <a:pt x="0" y="0"/>
                </a:moveTo>
                <a:lnTo>
                  <a:pt x="91160" y="0"/>
                </a:lnTo>
                <a:lnTo>
                  <a:pt x="89760" y="1400"/>
                </a:lnTo>
                <a:lnTo>
                  <a:pt x="1400" y="1400"/>
                </a:lnTo>
                <a:close/>
              </a:path>
              <a:path fill="darken" w="91160" h="21600">
                <a:moveTo>
                  <a:pt x="91160" y="0"/>
                </a:moveTo>
                <a:lnTo>
                  <a:pt x="91160" y="21600"/>
                </a:lnTo>
                <a:lnTo>
                  <a:pt x="89760" y="20200"/>
                </a:lnTo>
                <a:lnTo>
                  <a:pt x="89760" y="1400"/>
                </a:lnTo>
                <a:close/>
              </a:path>
              <a:path fill="darkenLess" w="91160" h="21600">
                <a:moveTo>
                  <a:pt x="91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60" y="20200"/>
                </a:lnTo>
                <a:close/>
              </a:path>
              <a:path fill="lighten" w="91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Luminăţiei voas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768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Omul trebuie să trăiască nu după cum îi place, ci după cum îi este îngădui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9" descr="livres%20(18)"/>
          <p:cNvPicPr/>
          <p:nvPr/>
        </p:nvPicPr>
        <p:blipFill>
          <a:blip r:embed="rId1"/>
          <a:stretch/>
        </p:blipFill>
        <p:spPr>
          <a:xfrm>
            <a:off x="3276720" y="3657600"/>
            <a:ext cx="2374920" cy="2055960"/>
          </a:xfrm>
          <a:prstGeom prst="rect">
            <a:avLst/>
          </a:prstGeom>
          <a:ln w="0">
            <a:noFill/>
          </a:ln>
        </p:spPr>
      </p:pic>
      <p:sp>
        <p:nvSpPr>
          <p:cNvPr id="465" name="CasetăText 5"/>
          <p:cNvSpPr/>
          <p:nvPr/>
        </p:nvSpPr>
        <p:spPr>
          <a:xfrm>
            <a:off x="1235520" y="6172200"/>
            <a:ext cx="554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IOARA VIYITIU+ SAM “ION PETROVICI”, TECU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1c1c1c"/>
                </a:solidFill>
                <a:latin typeface="Arial"/>
              </a:rPr>
              <a:t>Ne amintim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97240" y="1420920"/>
            <a:ext cx="6302160" cy="1928160"/>
          </a:xfrm>
          <a:prstGeom prst="rect">
            <a:avLst/>
          </a:prstGeom>
          <a:solidFill>
            <a:srgbClr val="e3fbf1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53753" dir="2700000" blurRad="0" rotWithShape="0">
              <a:srgbClr val="4d4d4d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ronumele personal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este PARTEA DE VORBIRE CAR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TINE LOCUL UNUI NUME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          ( unui substantiv )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0" y="4724280"/>
            <a:ext cx="7620120" cy="1828800"/>
          </a:xfrm>
          <a:prstGeom prst="flowChartOnlineStorag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b8f6d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300" spc="-1" strike="noStrike">
                <a:solidFill>
                  <a:srgbClr val="000000"/>
                </a:solidFill>
                <a:latin typeface="Arial"/>
              </a:rPr>
              <a:t>Dânsul / dânsa / dânsul / dânsel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300" spc="-1" strike="noStrike">
                <a:solidFill>
                  <a:srgbClr val="000000"/>
                </a:solidFill>
                <a:latin typeface="Arial"/>
              </a:rPr>
              <a:t>nu sunt pronume de politeţe 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WordArt 15"/>
          <p:cNvSpPr txBox="1"/>
          <p:nvPr/>
        </p:nvSpPr>
        <p:spPr>
          <a:xfrm>
            <a:off x="380880" y="3352680"/>
            <a:ext cx="8136000" cy="1028880"/>
          </a:xfrm>
          <a:prstGeom prst="rect">
            <a:avLst/>
          </a:prstGeom>
        </p:spPr>
        <p:txBody>
          <a:bodyPr wrap="none" lIns="90000" rIns="90000" tIns="46800" bIns="46800" anchor="t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cap="rnd" w="936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0000">
                    <a:alpha val="71000"/>
                  </a:srgbClr>
                </a:solidFill>
                <a:latin typeface="Arial"/>
              </a:rPr>
              <a:t>Respectul şi politeţea </a:t>
            </a:r>
            <a:endParaRPr b="1" lang="en-US" sz="5400" spc="1" strike="noStrike">
              <a:ln cap="rnd" w="936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0000">
                  <a:alpha val="7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82" name="WordArt 19"/>
          <p:cNvSpPr txBox="1"/>
          <p:nvPr/>
        </p:nvSpPr>
        <p:spPr>
          <a:xfrm>
            <a:off x="1523880" y="4800600"/>
            <a:ext cx="5761080" cy="523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53000"/>
                  </a:srgbClr>
                </a:solidFill>
                <a:latin typeface="Times New Roman"/>
              </a:rPr>
              <a:t>sunt de au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53000"/>
                </a:srgbClr>
              </a:solidFill>
              <a:latin typeface="Times New Roman"/>
              <a:ea typeface="Times New Roman"/>
            </a:endParaRPr>
          </a:p>
        </p:txBody>
      </p:sp>
      <p:pic>
        <p:nvPicPr>
          <p:cNvPr id="383" name="Picture 8" descr="baiat scrie"/>
          <p:cNvPicPr/>
          <p:nvPr/>
        </p:nvPicPr>
        <p:blipFill>
          <a:blip r:embed="rId1"/>
          <a:stretch/>
        </p:blipFill>
        <p:spPr>
          <a:xfrm>
            <a:off x="2057400" y="228600"/>
            <a:ext cx="345924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reptunghi 32"/>
          <p:cNvSpPr/>
          <p:nvPr/>
        </p:nvSpPr>
        <p:spPr>
          <a:xfrm>
            <a:off x="0" y="1143000"/>
            <a:ext cx="3048120" cy="5715000"/>
          </a:xfrm>
          <a:prstGeom prst="rect">
            <a:avLst/>
          </a:prstGeom>
          <a:solidFill>
            <a:srgbClr val="ff33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reptunghi 26"/>
          <p:cNvSpPr/>
          <p:nvPr/>
        </p:nvSpPr>
        <p:spPr>
          <a:xfrm>
            <a:off x="6019920" y="0"/>
            <a:ext cx="3124080" cy="6858000"/>
          </a:xfrm>
          <a:prstGeom prst="rect">
            <a:avLst/>
          </a:prstGeom>
          <a:solidFill>
            <a:srgbClr val="1aff1a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Dreptunghi 22"/>
          <p:cNvSpPr/>
          <p:nvPr/>
        </p:nvSpPr>
        <p:spPr>
          <a:xfrm>
            <a:off x="3352680" y="533520"/>
            <a:ext cx="2210040" cy="6095880"/>
          </a:xfrm>
          <a:prstGeom prst="rect">
            <a:avLst/>
          </a:prstGeom>
          <a:solidFill>
            <a:srgbClr val="f1fdf8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Buton acțiune: Particularizare 1"/>
          <p:cNvSpPr/>
          <p:nvPr/>
        </p:nvSpPr>
        <p:spPr>
          <a:xfrm>
            <a:off x="6248520" y="25909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ăria 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Buton acțiune: Particularizare 2"/>
          <p:cNvSpPr/>
          <p:nvPr/>
        </p:nvSpPr>
        <p:spPr>
          <a:xfrm>
            <a:off x="6248520" y="3429000"/>
            <a:ext cx="2590560" cy="685800"/>
          </a:xfrm>
          <a:custGeom>
            <a:avLst/>
            <a:gdLst>
              <a:gd name="textAreaLeft" fmla="*/ 44280 w 2590560"/>
              <a:gd name="textAreaRight" fmla="*/ 2546280 w 2590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81561" h="21600">
                <a:moveTo>
                  <a:pt x="0" y="0"/>
                </a:moveTo>
                <a:lnTo>
                  <a:pt x="81561" y="0"/>
                </a:lnTo>
                <a:lnTo>
                  <a:pt x="81561" y="21600"/>
                </a:lnTo>
                <a:lnTo>
                  <a:pt x="0" y="21600"/>
                </a:lnTo>
                <a:close/>
              </a:path>
              <a:path fill="lightenLess" w="81561" h="21600">
                <a:moveTo>
                  <a:pt x="0" y="0"/>
                </a:moveTo>
                <a:lnTo>
                  <a:pt x="81561" y="0"/>
                </a:lnTo>
                <a:lnTo>
                  <a:pt x="80161" y="1400"/>
                </a:lnTo>
                <a:lnTo>
                  <a:pt x="1400" y="1400"/>
                </a:lnTo>
                <a:close/>
              </a:path>
              <a:path fill="darken" w="81561" h="21600">
                <a:moveTo>
                  <a:pt x="81561" y="0"/>
                </a:moveTo>
                <a:lnTo>
                  <a:pt x="81561" y="21600"/>
                </a:lnTo>
                <a:lnTo>
                  <a:pt x="80161" y="20200"/>
                </a:lnTo>
                <a:lnTo>
                  <a:pt x="80161" y="1400"/>
                </a:lnTo>
                <a:close/>
              </a:path>
              <a:path fill="darkenLess" w="81561" h="21600">
                <a:moveTo>
                  <a:pt x="815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161" y="20200"/>
                </a:lnTo>
                <a:close/>
              </a:path>
              <a:path fill="lighten" w="815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omnia voastr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Buton acțiune: Particularizare 8"/>
          <p:cNvSpPr/>
          <p:nvPr/>
        </p:nvSpPr>
        <p:spPr>
          <a:xfrm>
            <a:off x="6248520" y="914400"/>
            <a:ext cx="1676160" cy="685800"/>
          </a:xfrm>
          <a:custGeom>
            <a:avLst/>
            <a:gdLst>
              <a:gd name="textAreaLeft" fmla="*/ 44280 w 1676160"/>
              <a:gd name="textAreaRight" fmla="*/ 1631880 w 1676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76" h="21600">
                <a:moveTo>
                  <a:pt x="0" y="0"/>
                </a:moveTo>
                <a:lnTo>
                  <a:pt x="52776" y="0"/>
                </a:lnTo>
                <a:lnTo>
                  <a:pt x="52776" y="21600"/>
                </a:lnTo>
                <a:lnTo>
                  <a:pt x="0" y="21600"/>
                </a:lnTo>
                <a:close/>
              </a:path>
              <a:path fill="lightenLess" w="52776" h="21600">
                <a:moveTo>
                  <a:pt x="0" y="0"/>
                </a:moveTo>
                <a:lnTo>
                  <a:pt x="52776" y="0"/>
                </a:lnTo>
                <a:lnTo>
                  <a:pt x="51376" y="1400"/>
                </a:lnTo>
                <a:lnTo>
                  <a:pt x="1400" y="1400"/>
                </a:lnTo>
                <a:close/>
              </a:path>
              <a:path fill="darken" w="52776" h="21600">
                <a:moveTo>
                  <a:pt x="52776" y="0"/>
                </a:moveTo>
                <a:lnTo>
                  <a:pt x="52776" y="21600"/>
                </a:lnTo>
                <a:lnTo>
                  <a:pt x="51376" y="20200"/>
                </a:lnTo>
                <a:lnTo>
                  <a:pt x="51376" y="1400"/>
                </a:lnTo>
                <a:close/>
              </a:path>
              <a:path fill="darkenLess" w="52776" h="21600">
                <a:moveTo>
                  <a:pt x="5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76" y="20200"/>
                </a:lnTo>
                <a:close/>
              </a:path>
              <a:path fill="lighten" w="5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omnia 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Buton acțiune: Particularizare 10"/>
          <p:cNvSpPr/>
          <p:nvPr/>
        </p:nvSpPr>
        <p:spPr>
          <a:xfrm>
            <a:off x="0" y="6172200"/>
            <a:ext cx="2895480" cy="685800"/>
          </a:xfrm>
          <a:custGeom>
            <a:avLst/>
            <a:gdLst>
              <a:gd name="textAreaLeft" fmla="*/ 44280 w 2895480"/>
              <a:gd name="textAreaRight" fmla="*/ 2851200 w 2895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60" h="21600">
                <a:moveTo>
                  <a:pt x="0" y="0"/>
                </a:moveTo>
                <a:lnTo>
                  <a:pt x="91160" y="0"/>
                </a:lnTo>
                <a:lnTo>
                  <a:pt x="91160" y="21600"/>
                </a:lnTo>
                <a:lnTo>
                  <a:pt x="0" y="21600"/>
                </a:lnTo>
                <a:close/>
              </a:path>
              <a:path fill="lightenLess" w="91160" h="21600">
                <a:moveTo>
                  <a:pt x="0" y="0"/>
                </a:moveTo>
                <a:lnTo>
                  <a:pt x="91160" y="0"/>
                </a:lnTo>
                <a:lnTo>
                  <a:pt x="89760" y="1400"/>
                </a:lnTo>
                <a:lnTo>
                  <a:pt x="1400" y="1400"/>
                </a:lnTo>
                <a:close/>
              </a:path>
              <a:path fill="darken" w="91160" h="21600">
                <a:moveTo>
                  <a:pt x="91160" y="0"/>
                </a:moveTo>
                <a:lnTo>
                  <a:pt x="91160" y="21600"/>
                </a:lnTo>
                <a:lnTo>
                  <a:pt x="89760" y="20200"/>
                </a:lnTo>
                <a:lnTo>
                  <a:pt x="89760" y="1400"/>
                </a:lnTo>
                <a:close/>
              </a:path>
              <a:path fill="darkenLess" w="91160" h="21600">
                <a:moveTo>
                  <a:pt x="91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60" y="20200"/>
                </a:lnTo>
                <a:close/>
              </a:path>
              <a:path fill="lighten" w="91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Buton acțiune: Particularizare 11"/>
          <p:cNvSpPr/>
          <p:nvPr/>
        </p:nvSpPr>
        <p:spPr>
          <a:xfrm>
            <a:off x="0" y="4114800"/>
            <a:ext cx="2895480" cy="685800"/>
          </a:xfrm>
          <a:custGeom>
            <a:avLst/>
            <a:gdLst>
              <a:gd name="textAreaLeft" fmla="*/ 44280 w 2895480"/>
              <a:gd name="textAreaRight" fmla="*/ 2851200 w 2895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60" h="21600">
                <a:moveTo>
                  <a:pt x="0" y="0"/>
                </a:moveTo>
                <a:lnTo>
                  <a:pt x="91160" y="0"/>
                </a:lnTo>
                <a:lnTo>
                  <a:pt x="91160" y="21600"/>
                </a:lnTo>
                <a:lnTo>
                  <a:pt x="0" y="21600"/>
                </a:lnTo>
                <a:close/>
              </a:path>
              <a:path fill="lightenLess" w="91160" h="21600">
                <a:moveTo>
                  <a:pt x="0" y="0"/>
                </a:moveTo>
                <a:lnTo>
                  <a:pt x="91160" y="0"/>
                </a:lnTo>
                <a:lnTo>
                  <a:pt x="89760" y="1400"/>
                </a:lnTo>
                <a:lnTo>
                  <a:pt x="1400" y="1400"/>
                </a:lnTo>
                <a:close/>
              </a:path>
              <a:path fill="darken" w="91160" h="21600">
                <a:moveTo>
                  <a:pt x="91160" y="0"/>
                </a:moveTo>
                <a:lnTo>
                  <a:pt x="91160" y="21600"/>
                </a:lnTo>
                <a:lnTo>
                  <a:pt x="89760" y="20200"/>
                </a:lnTo>
                <a:lnTo>
                  <a:pt x="89760" y="1400"/>
                </a:lnTo>
                <a:close/>
              </a:path>
              <a:path fill="darkenLess" w="91160" h="21600">
                <a:moveTo>
                  <a:pt x="91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60" y="20200"/>
                </a:lnTo>
                <a:close/>
              </a:path>
              <a:path fill="lighten" w="91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Buton acțiune: Particularizare 12"/>
          <p:cNvSpPr/>
          <p:nvPr/>
        </p:nvSpPr>
        <p:spPr>
          <a:xfrm>
            <a:off x="0" y="5181480"/>
            <a:ext cx="2057400" cy="685800"/>
          </a:xfrm>
          <a:custGeom>
            <a:avLst/>
            <a:gdLst>
              <a:gd name="textAreaLeft" fmla="*/ 44280 w 2057400"/>
              <a:gd name="textAreaRight" fmla="*/ 2013120 w 2057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4777" h="21600">
                <a:moveTo>
                  <a:pt x="0" y="0"/>
                </a:moveTo>
                <a:lnTo>
                  <a:pt x="64777" y="0"/>
                </a:lnTo>
                <a:lnTo>
                  <a:pt x="64777" y="21600"/>
                </a:lnTo>
                <a:lnTo>
                  <a:pt x="0" y="21600"/>
                </a:lnTo>
                <a:close/>
              </a:path>
              <a:path fill="lightenLess" w="64777" h="21600">
                <a:moveTo>
                  <a:pt x="0" y="0"/>
                </a:moveTo>
                <a:lnTo>
                  <a:pt x="64777" y="0"/>
                </a:lnTo>
                <a:lnTo>
                  <a:pt x="63377" y="1400"/>
                </a:lnTo>
                <a:lnTo>
                  <a:pt x="1400" y="1400"/>
                </a:lnTo>
                <a:close/>
              </a:path>
              <a:path fill="darken" w="64777" h="21600">
                <a:moveTo>
                  <a:pt x="64777" y="0"/>
                </a:moveTo>
                <a:lnTo>
                  <a:pt x="64777" y="21600"/>
                </a:lnTo>
                <a:lnTo>
                  <a:pt x="63377" y="20200"/>
                </a:lnTo>
                <a:lnTo>
                  <a:pt x="63377" y="1400"/>
                </a:lnTo>
                <a:close/>
              </a:path>
              <a:path fill="darkenLess" w="64777" h="21600">
                <a:moveTo>
                  <a:pt x="64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77" y="20200"/>
                </a:lnTo>
                <a:close/>
              </a:path>
              <a:path fill="lighten" w="64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Buton acțiune: Particularizare 13"/>
          <p:cNvSpPr/>
          <p:nvPr/>
        </p:nvSpPr>
        <p:spPr>
          <a:xfrm>
            <a:off x="0" y="3200400"/>
            <a:ext cx="2895480" cy="685800"/>
          </a:xfrm>
          <a:custGeom>
            <a:avLst/>
            <a:gdLst>
              <a:gd name="textAreaLeft" fmla="*/ 44280 w 2895480"/>
              <a:gd name="textAreaRight" fmla="*/ 2851200 w 2895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60" h="21600">
                <a:moveTo>
                  <a:pt x="0" y="0"/>
                </a:moveTo>
                <a:lnTo>
                  <a:pt x="91160" y="0"/>
                </a:lnTo>
                <a:lnTo>
                  <a:pt x="91160" y="21600"/>
                </a:lnTo>
                <a:lnTo>
                  <a:pt x="0" y="21600"/>
                </a:lnTo>
                <a:close/>
              </a:path>
              <a:path fill="lightenLess" w="91160" h="21600">
                <a:moveTo>
                  <a:pt x="0" y="0"/>
                </a:moveTo>
                <a:lnTo>
                  <a:pt x="91160" y="0"/>
                </a:lnTo>
                <a:lnTo>
                  <a:pt x="89760" y="1400"/>
                </a:lnTo>
                <a:lnTo>
                  <a:pt x="1400" y="1400"/>
                </a:lnTo>
                <a:close/>
              </a:path>
              <a:path fill="darken" w="91160" h="21600">
                <a:moveTo>
                  <a:pt x="91160" y="0"/>
                </a:moveTo>
                <a:lnTo>
                  <a:pt x="91160" y="21600"/>
                </a:lnTo>
                <a:lnTo>
                  <a:pt x="89760" y="20200"/>
                </a:lnTo>
                <a:lnTo>
                  <a:pt x="89760" y="1400"/>
                </a:lnTo>
                <a:close/>
              </a:path>
              <a:path fill="darkenLess" w="91160" h="21600">
                <a:moveTo>
                  <a:pt x="91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60" y="20200"/>
                </a:lnTo>
                <a:close/>
              </a:path>
              <a:path fill="lighten" w="91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voast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Buton acțiune: Particularizare 14"/>
          <p:cNvSpPr/>
          <p:nvPr/>
        </p:nvSpPr>
        <p:spPr>
          <a:xfrm>
            <a:off x="0" y="2286000"/>
            <a:ext cx="1981080" cy="685800"/>
          </a:xfrm>
          <a:custGeom>
            <a:avLst/>
            <a:gdLst>
              <a:gd name="textAreaLeft" fmla="*/ 44280 w 1981080"/>
              <a:gd name="textAreaRight" fmla="*/ 1936800 w 1981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2375" h="21600">
                <a:moveTo>
                  <a:pt x="0" y="0"/>
                </a:moveTo>
                <a:lnTo>
                  <a:pt x="62375" y="0"/>
                </a:lnTo>
                <a:lnTo>
                  <a:pt x="62375" y="21600"/>
                </a:lnTo>
                <a:lnTo>
                  <a:pt x="0" y="21600"/>
                </a:lnTo>
                <a:close/>
              </a:path>
              <a:path fill="lightenLess" w="62375" h="21600">
                <a:moveTo>
                  <a:pt x="0" y="0"/>
                </a:moveTo>
                <a:lnTo>
                  <a:pt x="62375" y="0"/>
                </a:lnTo>
                <a:lnTo>
                  <a:pt x="60975" y="1400"/>
                </a:lnTo>
                <a:lnTo>
                  <a:pt x="1400" y="1400"/>
                </a:lnTo>
                <a:close/>
              </a:path>
              <a:path fill="darken" w="62375" h="21600">
                <a:moveTo>
                  <a:pt x="62375" y="0"/>
                </a:moveTo>
                <a:lnTo>
                  <a:pt x="62375" y="21600"/>
                </a:lnTo>
                <a:lnTo>
                  <a:pt x="60975" y="20200"/>
                </a:lnTo>
                <a:lnTo>
                  <a:pt x="60975" y="1400"/>
                </a:lnTo>
                <a:close/>
              </a:path>
              <a:path fill="darkenLess" w="62375" h="21600">
                <a:moveTo>
                  <a:pt x="6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975" y="20200"/>
                </a:lnTo>
                <a:close/>
              </a:path>
              <a:path fill="lighten" w="6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Buton acțiune: Particularizare 15"/>
          <p:cNvSpPr/>
          <p:nvPr/>
        </p:nvSpPr>
        <p:spPr>
          <a:xfrm>
            <a:off x="3657600" y="36576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9976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a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Buton acțiune: Particularizare 16"/>
          <p:cNvSpPr/>
          <p:nvPr/>
        </p:nvSpPr>
        <p:spPr>
          <a:xfrm>
            <a:off x="3657600" y="457200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9976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ătăluţ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Buton acțiune: Particularizare 17"/>
          <p:cNvSpPr/>
          <p:nvPr/>
        </p:nvSpPr>
        <p:spPr>
          <a:xfrm>
            <a:off x="3657600" y="548640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9976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ătăl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Buton acțiune: Particularizare 18"/>
          <p:cNvSpPr/>
          <p:nvPr/>
        </p:nvSpPr>
        <p:spPr>
          <a:xfrm>
            <a:off x="3657600" y="175248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9976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Buton acțiune: Particularizare 19"/>
          <p:cNvSpPr/>
          <p:nvPr/>
        </p:nvSpPr>
        <p:spPr>
          <a:xfrm>
            <a:off x="365760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9976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tăl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Buton acțiune: Particularizare 23"/>
          <p:cNvSpPr/>
          <p:nvPr/>
        </p:nvSpPr>
        <p:spPr>
          <a:xfrm>
            <a:off x="6248520" y="5181480"/>
            <a:ext cx="2895480" cy="685800"/>
          </a:xfrm>
          <a:custGeom>
            <a:avLst/>
            <a:gdLst>
              <a:gd name="textAreaLeft" fmla="*/ 44280 w 2895480"/>
              <a:gd name="textAreaRight" fmla="*/ 2851200 w 2895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60" h="21600">
                <a:moveTo>
                  <a:pt x="0" y="0"/>
                </a:moveTo>
                <a:lnTo>
                  <a:pt x="91160" y="0"/>
                </a:lnTo>
                <a:lnTo>
                  <a:pt x="91160" y="21600"/>
                </a:lnTo>
                <a:lnTo>
                  <a:pt x="0" y="21600"/>
                </a:lnTo>
                <a:close/>
              </a:path>
              <a:path fill="lightenLess" w="91160" h="21600">
                <a:moveTo>
                  <a:pt x="0" y="0"/>
                </a:moveTo>
                <a:lnTo>
                  <a:pt x="91160" y="0"/>
                </a:lnTo>
                <a:lnTo>
                  <a:pt x="89760" y="1400"/>
                </a:lnTo>
                <a:lnTo>
                  <a:pt x="1400" y="1400"/>
                </a:lnTo>
                <a:close/>
              </a:path>
              <a:path fill="darken" w="91160" h="21600">
                <a:moveTo>
                  <a:pt x="91160" y="0"/>
                </a:moveTo>
                <a:lnTo>
                  <a:pt x="91160" y="21600"/>
                </a:lnTo>
                <a:lnTo>
                  <a:pt x="89760" y="20200"/>
                </a:lnTo>
                <a:lnTo>
                  <a:pt x="89760" y="1400"/>
                </a:lnTo>
                <a:close/>
              </a:path>
              <a:path fill="darkenLess" w="91160" h="21600">
                <a:moveTo>
                  <a:pt x="91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60" y="20200"/>
                </a:lnTo>
                <a:close/>
              </a:path>
              <a:path fill="lighten" w="91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Luminăţia voastr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Buton acțiune: Particularizare 24"/>
          <p:cNvSpPr/>
          <p:nvPr/>
        </p:nvSpPr>
        <p:spPr>
          <a:xfrm>
            <a:off x="6248520" y="4343400"/>
            <a:ext cx="2057400" cy="685800"/>
          </a:xfrm>
          <a:custGeom>
            <a:avLst/>
            <a:gdLst>
              <a:gd name="textAreaLeft" fmla="*/ 44280 w 2057400"/>
              <a:gd name="textAreaRight" fmla="*/ 2013120 w 2057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4777" h="21600">
                <a:moveTo>
                  <a:pt x="0" y="0"/>
                </a:moveTo>
                <a:lnTo>
                  <a:pt x="64777" y="0"/>
                </a:lnTo>
                <a:lnTo>
                  <a:pt x="64777" y="21600"/>
                </a:lnTo>
                <a:lnTo>
                  <a:pt x="0" y="21600"/>
                </a:lnTo>
                <a:close/>
              </a:path>
              <a:path fill="lightenLess" w="64777" h="21600">
                <a:moveTo>
                  <a:pt x="0" y="0"/>
                </a:moveTo>
                <a:lnTo>
                  <a:pt x="64777" y="0"/>
                </a:lnTo>
                <a:lnTo>
                  <a:pt x="63377" y="1400"/>
                </a:lnTo>
                <a:lnTo>
                  <a:pt x="1400" y="1400"/>
                </a:lnTo>
                <a:close/>
              </a:path>
              <a:path fill="darken" w="64777" h="21600">
                <a:moveTo>
                  <a:pt x="64777" y="0"/>
                </a:moveTo>
                <a:lnTo>
                  <a:pt x="64777" y="21600"/>
                </a:lnTo>
                <a:lnTo>
                  <a:pt x="63377" y="20200"/>
                </a:lnTo>
                <a:lnTo>
                  <a:pt x="63377" y="1400"/>
                </a:lnTo>
                <a:close/>
              </a:path>
              <a:path fill="darkenLess" w="64777" h="21600">
                <a:moveTo>
                  <a:pt x="64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77" y="20200"/>
                </a:lnTo>
                <a:close/>
              </a:path>
              <a:path fill="lighten" w="64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 </a:t>
            </a: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Înălţimea t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Buton acțiune: Particularizare 25"/>
          <p:cNvSpPr/>
          <p:nvPr/>
        </p:nvSpPr>
        <p:spPr>
          <a:xfrm>
            <a:off x="6248520" y="1752480"/>
            <a:ext cx="1904760" cy="685800"/>
          </a:xfrm>
          <a:custGeom>
            <a:avLst/>
            <a:gdLst>
              <a:gd name="textAreaLeft" fmla="*/ 44280 w 1904760"/>
              <a:gd name="textAreaRight" fmla="*/ 1860480 w 1904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9972" h="21600">
                <a:moveTo>
                  <a:pt x="0" y="0"/>
                </a:moveTo>
                <a:lnTo>
                  <a:pt x="59972" y="0"/>
                </a:lnTo>
                <a:lnTo>
                  <a:pt x="59972" y="21600"/>
                </a:lnTo>
                <a:lnTo>
                  <a:pt x="0" y="21600"/>
                </a:lnTo>
                <a:close/>
              </a:path>
              <a:path fill="lightenLess" w="59972" h="21600">
                <a:moveTo>
                  <a:pt x="0" y="0"/>
                </a:moveTo>
                <a:lnTo>
                  <a:pt x="59972" y="0"/>
                </a:lnTo>
                <a:lnTo>
                  <a:pt x="58572" y="1400"/>
                </a:lnTo>
                <a:lnTo>
                  <a:pt x="1400" y="1400"/>
                </a:lnTo>
                <a:close/>
              </a:path>
              <a:path fill="darken" w="59972" h="21600">
                <a:moveTo>
                  <a:pt x="59972" y="0"/>
                </a:moveTo>
                <a:lnTo>
                  <a:pt x="59972" y="21600"/>
                </a:lnTo>
                <a:lnTo>
                  <a:pt x="58572" y="20200"/>
                </a:lnTo>
                <a:lnTo>
                  <a:pt x="58572" y="1400"/>
                </a:lnTo>
                <a:close/>
              </a:path>
              <a:path fill="darkenLess" w="59972" h="21600">
                <a:moveTo>
                  <a:pt x="59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72" y="20200"/>
                </a:lnTo>
                <a:close/>
              </a:path>
              <a:path fill="lighten" w="59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omnia 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Buton acțiune: Particularizare 27"/>
          <p:cNvSpPr/>
          <p:nvPr/>
        </p:nvSpPr>
        <p:spPr>
          <a:xfrm>
            <a:off x="6248520" y="6019920"/>
            <a:ext cx="2514600" cy="685800"/>
          </a:xfrm>
          <a:custGeom>
            <a:avLst/>
            <a:gdLst>
              <a:gd name="textAreaLeft" fmla="*/ 44280 w 2514600"/>
              <a:gd name="textAreaRight" fmla="*/ 2470320 w 2514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9170" h="21600">
                <a:moveTo>
                  <a:pt x="0" y="0"/>
                </a:moveTo>
                <a:lnTo>
                  <a:pt x="79170" y="0"/>
                </a:lnTo>
                <a:lnTo>
                  <a:pt x="79170" y="21600"/>
                </a:lnTo>
                <a:lnTo>
                  <a:pt x="0" y="21600"/>
                </a:lnTo>
                <a:close/>
              </a:path>
              <a:path fill="lightenLess" w="79170" h="21600">
                <a:moveTo>
                  <a:pt x="0" y="0"/>
                </a:moveTo>
                <a:lnTo>
                  <a:pt x="79170" y="0"/>
                </a:lnTo>
                <a:lnTo>
                  <a:pt x="77770" y="1400"/>
                </a:lnTo>
                <a:lnTo>
                  <a:pt x="1400" y="1400"/>
                </a:lnTo>
                <a:close/>
              </a:path>
              <a:path fill="darken" w="79170" h="21600">
                <a:moveTo>
                  <a:pt x="79170" y="0"/>
                </a:moveTo>
                <a:lnTo>
                  <a:pt x="79170" y="21600"/>
                </a:lnTo>
                <a:lnTo>
                  <a:pt x="77770" y="20200"/>
                </a:lnTo>
                <a:lnTo>
                  <a:pt x="77770" y="1400"/>
                </a:lnTo>
                <a:close/>
              </a:path>
              <a:path fill="darkenLess" w="79170" h="21600">
                <a:moveTo>
                  <a:pt x="79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0" y="20200"/>
                </a:lnTo>
                <a:close/>
              </a:path>
              <a:path fill="lighten" w="79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 </a:t>
            </a: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Excelenţa s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0" y="0"/>
            <a:ext cx="5715000" cy="487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ronumele personale de politeţ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CasetăText 29"/>
          <p:cNvSpPr/>
          <p:nvPr/>
        </p:nvSpPr>
        <p:spPr>
          <a:xfrm>
            <a:off x="0" y="1371600"/>
            <a:ext cx="1905120" cy="801000"/>
          </a:xfrm>
          <a:prstGeom prst="downArrowCallout">
            <a:avLst>
              <a:gd name="adj1" fmla="val 25020"/>
              <a:gd name="adj2" fmla="val 25017"/>
              <a:gd name="adj3" fmla="val 25000"/>
              <a:gd name="adj4" fmla="val 64977"/>
            </a:avLst>
          </a:prstGeom>
          <a:solidFill>
            <a:srgbClr val="66ffff"/>
          </a:solidFill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De obic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CasetăText 30"/>
          <p:cNvSpPr/>
          <p:nvPr/>
        </p:nvSpPr>
        <p:spPr>
          <a:xfrm>
            <a:off x="6170400" y="0"/>
            <a:ext cx="2056680" cy="801000"/>
          </a:xfrm>
          <a:prstGeom prst="downArrowCallout">
            <a:avLst>
              <a:gd name="adj1" fmla="val 25061"/>
              <a:gd name="adj2" fmla="val 25070"/>
              <a:gd name="adj3" fmla="val 25000"/>
              <a:gd name="adj4" fmla="val 64977"/>
            </a:avLst>
          </a:prstGeom>
          <a:solidFill>
            <a:srgbClr val="66ffff"/>
          </a:solidFill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Protoco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CasetăText 31"/>
          <p:cNvSpPr/>
          <p:nvPr/>
        </p:nvSpPr>
        <p:spPr>
          <a:xfrm>
            <a:off x="3598200" y="762120"/>
            <a:ext cx="1644120" cy="801000"/>
          </a:xfrm>
          <a:prstGeom prst="downArrowCallout">
            <a:avLst>
              <a:gd name="adj1" fmla="val 24500"/>
              <a:gd name="adj2" fmla="val 24498"/>
              <a:gd name="adj3" fmla="val 25000"/>
              <a:gd name="adj4" fmla="val 64977"/>
            </a:avLst>
          </a:prstGeom>
          <a:solidFill>
            <a:srgbClr val="66ffff"/>
          </a:solidFill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Famili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11" descr="militia"/>
          <p:cNvPicPr/>
          <p:nvPr/>
        </p:nvPicPr>
        <p:blipFill>
          <a:blip r:embed="rId1"/>
          <a:stretch/>
        </p:blipFill>
        <p:spPr>
          <a:xfrm>
            <a:off x="3048120" y="304920"/>
            <a:ext cx="5508360" cy="3628800"/>
          </a:xfrm>
          <a:prstGeom prst="rect">
            <a:avLst/>
          </a:prstGeom>
          <a:ln w="0">
            <a:noFill/>
          </a:ln>
        </p:spPr>
      </p:pic>
      <p:sp>
        <p:nvSpPr>
          <p:cNvPr id="409" name="CasetăText 2"/>
          <p:cNvSpPr/>
          <p:nvPr/>
        </p:nvSpPr>
        <p:spPr>
          <a:xfrm>
            <a:off x="428400" y="4114800"/>
            <a:ext cx="8101080" cy="520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Eu, pe …………………………, domnule poli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ţist , vă cunos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Buton acțiune: Particularizare 3">
            <a:hlinkClick r:id="rId2"/>
          </p:cNvPr>
          <p:cNvSpPr/>
          <p:nvPr/>
        </p:nvSpPr>
        <p:spPr>
          <a:xfrm>
            <a:off x="5715000" y="4876920"/>
            <a:ext cx="3124080" cy="609480"/>
          </a:xfrm>
          <a:custGeom>
            <a:avLst/>
            <a:gdLst>
              <a:gd name="textAreaLeft" fmla="*/ 39240 w 3124080"/>
              <a:gd name="textAreaRight" fmla="*/ 3084840 w 3124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0665" h="21600">
                <a:moveTo>
                  <a:pt x="0" y="0"/>
                </a:moveTo>
                <a:lnTo>
                  <a:pt x="110665" y="0"/>
                </a:lnTo>
                <a:lnTo>
                  <a:pt x="110665" y="21600"/>
                </a:lnTo>
                <a:lnTo>
                  <a:pt x="0" y="21600"/>
                </a:lnTo>
                <a:close/>
              </a:path>
              <a:path fill="lightenLess" w="110665" h="21600">
                <a:moveTo>
                  <a:pt x="0" y="0"/>
                </a:moveTo>
                <a:lnTo>
                  <a:pt x="110665" y="0"/>
                </a:lnTo>
                <a:lnTo>
                  <a:pt x="109265" y="1400"/>
                </a:lnTo>
                <a:lnTo>
                  <a:pt x="1400" y="1400"/>
                </a:lnTo>
                <a:close/>
              </a:path>
              <a:path fill="darken" w="110665" h="21600">
                <a:moveTo>
                  <a:pt x="110665" y="0"/>
                </a:moveTo>
                <a:lnTo>
                  <a:pt x="110665" y="21600"/>
                </a:lnTo>
                <a:lnTo>
                  <a:pt x="109265" y="20200"/>
                </a:lnTo>
                <a:lnTo>
                  <a:pt x="109265" y="1400"/>
                </a:lnTo>
                <a:close/>
              </a:path>
              <a:path fill="darkenLess" w="110665" h="21600">
                <a:moveTo>
                  <a:pt x="110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265" y="20200"/>
                </a:lnTo>
                <a:close/>
              </a:path>
              <a:path fill="lighten" w="110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dumneavoastr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Buton acțiune: Particularizare 4"/>
          <p:cNvSpPr/>
          <p:nvPr/>
        </p:nvSpPr>
        <p:spPr>
          <a:xfrm>
            <a:off x="228600" y="5562720"/>
            <a:ext cx="3048120" cy="685800"/>
          </a:xfrm>
          <a:custGeom>
            <a:avLst/>
            <a:gdLst>
              <a:gd name="textAreaLeft" fmla="*/ 44280 w 3048120"/>
              <a:gd name="textAreaRight" fmla="*/ 3003840 w 3048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5965" h="21600">
                <a:moveTo>
                  <a:pt x="0" y="0"/>
                </a:moveTo>
                <a:lnTo>
                  <a:pt x="95965" y="0"/>
                </a:lnTo>
                <a:lnTo>
                  <a:pt x="95965" y="21600"/>
                </a:lnTo>
                <a:lnTo>
                  <a:pt x="0" y="21600"/>
                </a:lnTo>
                <a:close/>
              </a:path>
              <a:path fill="lightenLess" w="95965" h="21600">
                <a:moveTo>
                  <a:pt x="0" y="0"/>
                </a:moveTo>
                <a:lnTo>
                  <a:pt x="95965" y="0"/>
                </a:lnTo>
                <a:lnTo>
                  <a:pt x="94565" y="1400"/>
                </a:lnTo>
                <a:lnTo>
                  <a:pt x="1400" y="1400"/>
                </a:lnTo>
                <a:close/>
              </a:path>
              <a:path fill="darken" w="95965" h="21600">
                <a:moveTo>
                  <a:pt x="95965" y="0"/>
                </a:moveTo>
                <a:lnTo>
                  <a:pt x="95965" y="21600"/>
                </a:lnTo>
                <a:lnTo>
                  <a:pt x="94565" y="20200"/>
                </a:lnTo>
                <a:lnTo>
                  <a:pt x="94565" y="1400"/>
                </a:lnTo>
                <a:close/>
              </a:path>
              <a:path fill="darkenLess" w="95965" h="21600">
                <a:moveTo>
                  <a:pt x="95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565" y="20200"/>
                </a:lnTo>
                <a:close/>
              </a:path>
              <a:path fill="lighten" w="95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dumneal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Buton acțiune: Particularizare 5"/>
          <p:cNvSpPr/>
          <p:nvPr/>
        </p:nvSpPr>
        <p:spPr>
          <a:xfrm>
            <a:off x="3733920" y="4800600"/>
            <a:ext cx="1676160" cy="685800"/>
          </a:xfrm>
          <a:custGeom>
            <a:avLst/>
            <a:gdLst>
              <a:gd name="textAreaLeft" fmla="*/ 44280 w 1676160"/>
              <a:gd name="textAreaRight" fmla="*/ 1631880 w 1676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76" h="21600">
                <a:moveTo>
                  <a:pt x="0" y="0"/>
                </a:moveTo>
                <a:lnTo>
                  <a:pt x="52776" y="0"/>
                </a:lnTo>
                <a:lnTo>
                  <a:pt x="52776" y="21600"/>
                </a:lnTo>
                <a:lnTo>
                  <a:pt x="0" y="21600"/>
                </a:lnTo>
                <a:close/>
              </a:path>
              <a:path fill="lightenLess" w="52776" h="21600">
                <a:moveTo>
                  <a:pt x="0" y="0"/>
                </a:moveTo>
                <a:lnTo>
                  <a:pt x="52776" y="0"/>
                </a:lnTo>
                <a:lnTo>
                  <a:pt x="51376" y="1400"/>
                </a:lnTo>
                <a:lnTo>
                  <a:pt x="1400" y="1400"/>
                </a:lnTo>
                <a:close/>
              </a:path>
              <a:path fill="darken" w="52776" h="21600">
                <a:moveTo>
                  <a:pt x="52776" y="0"/>
                </a:moveTo>
                <a:lnTo>
                  <a:pt x="52776" y="21600"/>
                </a:lnTo>
                <a:lnTo>
                  <a:pt x="51376" y="20200"/>
                </a:lnTo>
                <a:lnTo>
                  <a:pt x="51376" y="1400"/>
                </a:lnTo>
                <a:close/>
              </a:path>
              <a:path fill="darkenLess" w="52776" h="21600">
                <a:moveTo>
                  <a:pt x="5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76" y="20200"/>
                </a:lnTo>
                <a:close/>
              </a:path>
              <a:path fill="lighten" w="5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9976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ătăluţ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Buton acțiune: Particularizare 6"/>
          <p:cNvSpPr/>
          <p:nvPr/>
        </p:nvSpPr>
        <p:spPr>
          <a:xfrm>
            <a:off x="3733920" y="5791320"/>
            <a:ext cx="2590560" cy="685800"/>
          </a:xfrm>
          <a:custGeom>
            <a:avLst/>
            <a:gdLst>
              <a:gd name="textAreaLeft" fmla="*/ 44280 w 2590560"/>
              <a:gd name="textAreaRight" fmla="*/ 2546280 w 2590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81561" h="21600">
                <a:moveTo>
                  <a:pt x="0" y="0"/>
                </a:moveTo>
                <a:lnTo>
                  <a:pt x="81561" y="0"/>
                </a:lnTo>
                <a:lnTo>
                  <a:pt x="81561" y="21600"/>
                </a:lnTo>
                <a:lnTo>
                  <a:pt x="0" y="21600"/>
                </a:lnTo>
                <a:close/>
              </a:path>
              <a:path fill="lightenLess" w="81561" h="21600">
                <a:moveTo>
                  <a:pt x="0" y="0"/>
                </a:moveTo>
                <a:lnTo>
                  <a:pt x="81561" y="0"/>
                </a:lnTo>
                <a:lnTo>
                  <a:pt x="80161" y="1400"/>
                </a:lnTo>
                <a:lnTo>
                  <a:pt x="1400" y="1400"/>
                </a:lnTo>
                <a:close/>
              </a:path>
              <a:path fill="darken" w="81561" h="21600">
                <a:moveTo>
                  <a:pt x="81561" y="0"/>
                </a:moveTo>
                <a:lnTo>
                  <a:pt x="81561" y="21600"/>
                </a:lnTo>
                <a:lnTo>
                  <a:pt x="80161" y="20200"/>
                </a:lnTo>
                <a:lnTo>
                  <a:pt x="80161" y="1400"/>
                </a:lnTo>
                <a:close/>
              </a:path>
              <a:path fill="darkenLess" w="81561" h="21600">
                <a:moveTo>
                  <a:pt x="815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161" y="20200"/>
                </a:lnTo>
                <a:close/>
              </a:path>
              <a:path fill="lighten" w="815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omnia voastr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CasetăText 7"/>
          <p:cNvSpPr/>
          <p:nvPr/>
        </p:nvSpPr>
        <p:spPr>
          <a:xfrm>
            <a:off x="16200" y="1752480"/>
            <a:ext cx="2934720" cy="36828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CLIK pe varianta corect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reptunghi 2"/>
          <p:cNvSpPr/>
          <p:nvPr/>
        </p:nvSpPr>
        <p:spPr>
          <a:xfrm>
            <a:off x="3429000" y="304920"/>
            <a:ext cx="5334120" cy="1191240"/>
          </a:xfrm>
          <a:prstGeom prst="rect">
            <a:avLst/>
          </a:prstGeom>
          <a:solidFill>
            <a:srgbClr val="16e9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Înv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ăţă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torul se ridic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ă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de la catedr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ă.  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…………………….. se apropie de un b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ăi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at cu privirea sfioas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ă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5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2743200" cy="5715000"/>
          </a:xfrm>
          <a:prstGeom prst="rect">
            <a:avLst/>
          </a:prstGeom>
          <a:ln w="0">
            <a:noFill/>
          </a:ln>
        </p:spPr>
      </p:pic>
      <p:sp>
        <p:nvSpPr>
          <p:cNvPr id="417" name="Buton acțiune: Particularizare 6">
            <a:hlinkClick r:id="rId2"/>
          </p:cNvPr>
          <p:cNvSpPr/>
          <p:nvPr/>
        </p:nvSpPr>
        <p:spPr>
          <a:xfrm>
            <a:off x="4495680" y="4114800"/>
            <a:ext cx="2057400" cy="685800"/>
          </a:xfrm>
          <a:custGeom>
            <a:avLst/>
            <a:gdLst>
              <a:gd name="textAreaLeft" fmla="*/ 44280 w 2057400"/>
              <a:gd name="textAreaRight" fmla="*/ 2013120 w 2057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4777" h="21600">
                <a:moveTo>
                  <a:pt x="0" y="0"/>
                </a:moveTo>
                <a:lnTo>
                  <a:pt x="64777" y="0"/>
                </a:lnTo>
                <a:lnTo>
                  <a:pt x="64777" y="21600"/>
                </a:lnTo>
                <a:lnTo>
                  <a:pt x="0" y="21600"/>
                </a:lnTo>
                <a:close/>
              </a:path>
              <a:path fill="lightenLess" w="64777" h="21600">
                <a:moveTo>
                  <a:pt x="0" y="0"/>
                </a:moveTo>
                <a:lnTo>
                  <a:pt x="64777" y="0"/>
                </a:lnTo>
                <a:lnTo>
                  <a:pt x="63377" y="1400"/>
                </a:lnTo>
                <a:lnTo>
                  <a:pt x="1400" y="1400"/>
                </a:lnTo>
                <a:close/>
              </a:path>
              <a:path fill="darken" w="64777" h="21600">
                <a:moveTo>
                  <a:pt x="64777" y="0"/>
                </a:moveTo>
                <a:lnTo>
                  <a:pt x="64777" y="21600"/>
                </a:lnTo>
                <a:lnTo>
                  <a:pt x="63377" y="20200"/>
                </a:lnTo>
                <a:lnTo>
                  <a:pt x="63377" y="1400"/>
                </a:lnTo>
                <a:close/>
              </a:path>
              <a:path fill="darkenLess" w="64777" h="21600">
                <a:moveTo>
                  <a:pt x="64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77" y="20200"/>
                </a:lnTo>
                <a:close/>
              </a:path>
              <a:path fill="lighten" w="64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Buton acțiune: Particularizare 8"/>
          <p:cNvSpPr/>
          <p:nvPr/>
        </p:nvSpPr>
        <p:spPr>
          <a:xfrm>
            <a:off x="4572000" y="3124080"/>
            <a:ext cx="2895480" cy="685800"/>
          </a:xfrm>
          <a:custGeom>
            <a:avLst/>
            <a:gdLst>
              <a:gd name="textAreaLeft" fmla="*/ 44280 w 2895480"/>
              <a:gd name="textAreaRight" fmla="*/ 2851200 w 2895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60" h="21600">
                <a:moveTo>
                  <a:pt x="0" y="0"/>
                </a:moveTo>
                <a:lnTo>
                  <a:pt x="91160" y="0"/>
                </a:lnTo>
                <a:lnTo>
                  <a:pt x="91160" y="21600"/>
                </a:lnTo>
                <a:lnTo>
                  <a:pt x="0" y="21600"/>
                </a:lnTo>
                <a:close/>
              </a:path>
              <a:path fill="lightenLess" w="91160" h="21600">
                <a:moveTo>
                  <a:pt x="0" y="0"/>
                </a:moveTo>
                <a:lnTo>
                  <a:pt x="91160" y="0"/>
                </a:lnTo>
                <a:lnTo>
                  <a:pt x="89760" y="1400"/>
                </a:lnTo>
                <a:lnTo>
                  <a:pt x="1400" y="1400"/>
                </a:lnTo>
                <a:close/>
              </a:path>
              <a:path fill="darken" w="91160" h="21600">
                <a:moveTo>
                  <a:pt x="91160" y="0"/>
                </a:moveTo>
                <a:lnTo>
                  <a:pt x="91160" y="21600"/>
                </a:lnTo>
                <a:lnTo>
                  <a:pt x="89760" y="20200"/>
                </a:lnTo>
                <a:lnTo>
                  <a:pt x="89760" y="1400"/>
                </a:lnTo>
                <a:close/>
              </a:path>
              <a:path fill="darkenLess" w="91160" h="21600">
                <a:moveTo>
                  <a:pt x="91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60" y="20200"/>
                </a:lnTo>
                <a:close/>
              </a:path>
              <a:path fill="lighten" w="91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voast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Buton acțiune: Particularizare 9"/>
          <p:cNvSpPr/>
          <p:nvPr/>
        </p:nvSpPr>
        <p:spPr>
          <a:xfrm>
            <a:off x="4572000" y="2209680"/>
            <a:ext cx="1981080" cy="685800"/>
          </a:xfrm>
          <a:custGeom>
            <a:avLst/>
            <a:gdLst>
              <a:gd name="textAreaLeft" fmla="*/ 44280 w 1981080"/>
              <a:gd name="textAreaRight" fmla="*/ 1936800 w 1981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2375" h="21600">
                <a:moveTo>
                  <a:pt x="0" y="0"/>
                </a:moveTo>
                <a:lnTo>
                  <a:pt x="62375" y="0"/>
                </a:lnTo>
                <a:lnTo>
                  <a:pt x="62375" y="21600"/>
                </a:lnTo>
                <a:lnTo>
                  <a:pt x="0" y="21600"/>
                </a:lnTo>
                <a:close/>
              </a:path>
              <a:path fill="lightenLess" w="62375" h="21600">
                <a:moveTo>
                  <a:pt x="0" y="0"/>
                </a:moveTo>
                <a:lnTo>
                  <a:pt x="62375" y="0"/>
                </a:lnTo>
                <a:lnTo>
                  <a:pt x="60975" y="1400"/>
                </a:lnTo>
                <a:lnTo>
                  <a:pt x="1400" y="1400"/>
                </a:lnTo>
                <a:close/>
              </a:path>
              <a:path fill="darken" w="62375" h="21600">
                <a:moveTo>
                  <a:pt x="62375" y="0"/>
                </a:moveTo>
                <a:lnTo>
                  <a:pt x="62375" y="21600"/>
                </a:lnTo>
                <a:lnTo>
                  <a:pt x="60975" y="20200"/>
                </a:lnTo>
                <a:lnTo>
                  <a:pt x="60975" y="1400"/>
                </a:lnTo>
                <a:close/>
              </a:path>
              <a:path fill="darkenLess" w="62375" h="21600">
                <a:moveTo>
                  <a:pt x="6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975" y="20200"/>
                </a:lnTo>
                <a:close/>
              </a:path>
              <a:path fill="lighten" w="6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4" descr="AJBQNZ36S"/>
          <p:cNvPicPr/>
          <p:nvPr/>
        </p:nvPicPr>
        <p:blipFill>
          <a:blip r:embed="rId1"/>
          <a:srcRect l="7875" t="0" r="11250" b="0"/>
          <a:stretch/>
        </p:blipFill>
        <p:spPr>
          <a:xfrm>
            <a:off x="1752480" y="0"/>
            <a:ext cx="5105520" cy="4038480"/>
          </a:xfrm>
          <a:prstGeom prst="rect">
            <a:avLst/>
          </a:prstGeom>
          <a:ln w="0">
            <a:noFill/>
          </a:ln>
        </p:spPr>
      </p:pic>
      <p:sp>
        <p:nvSpPr>
          <p:cNvPr id="421" name="CasetăText 2"/>
          <p:cNvSpPr/>
          <p:nvPr/>
        </p:nvSpPr>
        <p:spPr>
          <a:xfrm>
            <a:off x="640440" y="4267080"/>
            <a:ext cx="7824960" cy="4597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f0be"/>
                </a:solidFill>
                <a:latin typeface="Arial"/>
              </a:rPr>
              <a:t>- ………………………., bunicule, nu te temi de alb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Buton acțiune: Particularizare 3"/>
          <p:cNvSpPr/>
          <p:nvPr/>
        </p:nvSpPr>
        <p:spPr>
          <a:xfrm>
            <a:off x="228600" y="5257800"/>
            <a:ext cx="2895480" cy="685800"/>
          </a:xfrm>
          <a:custGeom>
            <a:avLst/>
            <a:gdLst>
              <a:gd name="textAreaLeft" fmla="*/ 44280 w 2895480"/>
              <a:gd name="textAreaRight" fmla="*/ 2851200 w 2895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60" h="21600">
                <a:moveTo>
                  <a:pt x="0" y="0"/>
                </a:moveTo>
                <a:lnTo>
                  <a:pt x="91160" y="0"/>
                </a:lnTo>
                <a:lnTo>
                  <a:pt x="91160" y="21600"/>
                </a:lnTo>
                <a:lnTo>
                  <a:pt x="0" y="21600"/>
                </a:lnTo>
                <a:close/>
              </a:path>
              <a:path fill="lightenLess" w="91160" h="21600">
                <a:moveTo>
                  <a:pt x="0" y="0"/>
                </a:moveTo>
                <a:lnTo>
                  <a:pt x="91160" y="0"/>
                </a:lnTo>
                <a:lnTo>
                  <a:pt x="89760" y="1400"/>
                </a:lnTo>
                <a:lnTo>
                  <a:pt x="1400" y="1400"/>
                </a:lnTo>
                <a:close/>
              </a:path>
              <a:path fill="darken" w="91160" h="21600">
                <a:moveTo>
                  <a:pt x="91160" y="0"/>
                </a:moveTo>
                <a:lnTo>
                  <a:pt x="91160" y="21600"/>
                </a:lnTo>
                <a:lnTo>
                  <a:pt x="89760" y="20200"/>
                </a:lnTo>
                <a:lnTo>
                  <a:pt x="89760" y="1400"/>
                </a:lnTo>
                <a:close/>
              </a:path>
              <a:path fill="darkenLess" w="91160" h="21600">
                <a:moveTo>
                  <a:pt x="91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60" y="20200"/>
                </a:lnTo>
                <a:close/>
              </a:path>
              <a:path fill="lighten" w="91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voast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Buton acțiune: Particularizare 4"/>
          <p:cNvSpPr/>
          <p:nvPr/>
        </p:nvSpPr>
        <p:spPr>
          <a:xfrm>
            <a:off x="3581280" y="52578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ăria 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Buton acțiune: Particularizare 5">
            <a:hlinkClick r:id="rId2"/>
          </p:cNvPr>
          <p:cNvSpPr/>
          <p:nvPr/>
        </p:nvSpPr>
        <p:spPr>
          <a:xfrm>
            <a:off x="5410080" y="52578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9976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Buton acțiune: Particularizare 6"/>
          <p:cNvSpPr/>
          <p:nvPr/>
        </p:nvSpPr>
        <p:spPr>
          <a:xfrm>
            <a:off x="6934320" y="5257800"/>
            <a:ext cx="2057400" cy="685800"/>
          </a:xfrm>
          <a:custGeom>
            <a:avLst/>
            <a:gdLst>
              <a:gd name="textAreaLeft" fmla="*/ 44280 w 2057400"/>
              <a:gd name="textAreaRight" fmla="*/ 2013120 w 2057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4777" h="21600">
                <a:moveTo>
                  <a:pt x="0" y="0"/>
                </a:moveTo>
                <a:lnTo>
                  <a:pt x="64777" y="0"/>
                </a:lnTo>
                <a:lnTo>
                  <a:pt x="64777" y="21600"/>
                </a:lnTo>
                <a:lnTo>
                  <a:pt x="0" y="21600"/>
                </a:lnTo>
                <a:close/>
              </a:path>
              <a:path fill="lightenLess" w="64777" h="21600">
                <a:moveTo>
                  <a:pt x="0" y="0"/>
                </a:moveTo>
                <a:lnTo>
                  <a:pt x="64777" y="0"/>
                </a:lnTo>
                <a:lnTo>
                  <a:pt x="63377" y="1400"/>
                </a:lnTo>
                <a:lnTo>
                  <a:pt x="1400" y="1400"/>
                </a:lnTo>
                <a:close/>
              </a:path>
              <a:path fill="darken" w="64777" h="21600">
                <a:moveTo>
                  <a:pt x="64777" y="0"/>
                </a:moveTo>
                <a:lnTo>
                  <a:pt x="64777" y="21600"/>
                </a:lnTo>
                <a:lnTo>
                  <a:pt x="63377" y="20200"/>
                </a:lnTo>
                <a:lnTo>
                  <a:pt x="63377" y="1400"/>
                </a:lnTo>
                <a:close/>
              </a:path>
              <a:path fill="darkenLess" w="64777" h="21600">
                <a:moveTo>
                  <a:pt x="64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77" y="20200"/>
                </a:lnTo>
                <a:close/>
              </a:path>
              <a:path fill="lighten" w="64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8" descr="BD19923_"/>
          <p:cNvPicPr/>
          <p:nvPr/>
        </p:nvPicPr>
        <p:blipFill>
          <a:blip r:embed="rId1"/>
          <a:stretch/>
        </p:blipFill>
        <p:spPr>
          <a:xfrm>
            <a:off x="0" y="0"/>
            <a:ext cx="9212400" cy="3733920"/>
          </a:xfrm>
          <a:prstGeom prst="rect">
            <a:avLst/>
          </a:prstGeom>
          <a:ln w="0">
            <a:noFill/>
          </a:ln>
        </p:spPr>
      </p:pic>
      <p:sp>
        <p:nvSpPr>
          <p:cNvPr id="427" name="CasetăText 2"/>
          <p:cNvSpPr/>
          <p:nvPr/>
        </p:nvSpPr>
        <p:spPr>
          <a:xfrm>
            <a:off x="331200" y="4038480"/>
            <a:ext cx="8292600" cy="398880"/>
          </a:xfrm>
          <a:prstGeom prst="rect">
            <a:avLst/>
          </a:prstGeom>
          <a:solidFill>
            <a:srgbClr val="16e9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…………………………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nt</a:t>
            </a: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 profesorii mei. Acum sunt într-o şedinţ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Buton acțiune: Particularizare 3">
            <a:hlinkClick r:id="rId2"/>
          </p:cNvPr>
          <p:cNvSpPr/>
          <p:nvPr/>
        </p:nvSpPr>
        <p:spPr>
          <a:xfrm>
            <a:off x="5715000" y="4724280"/>
            <a:ext cx="2895480" cy="685800"/>
          </a:xfrm>
          <a:custGeom>
            <a:avLst/>
            <a:gdLst>
              <a:gd name="textAreaLeft" fmla="*/ 44280 w 2895480"/>
              <a:gd name="textAreaRight" fmla="*/ 2851200 w 2895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60" h="21600">
                <a:moveTo>
                  <a:pt x="0" y="0"/>
                </a:moveTo>
                <a:lnTo>
                  <a:pt x="91160" y="0"/>
                </a:lnTo>
                <a:lnTo>
                  <a:pt x="91160" y="21600"/>
                </a:lnTo>
                <a:lnTo>
                  <a:pt x="0" y="21600"/>
                </a:lnTo>
                <a:close/>
              </a:path>
              <a:path fill="lightenLess" w="91160" h="21600">
                <a:moveTo>
                  <a:pt x="0" y="0"/>
                </a:moveTo>
                <a:lnTo>
                  <a:pt x="91160" y="0"/>
                </a:lnTo>
                <a:lnTo>
                  <a:pt x="89760" y="1400"/>
                </a:lnTo>
                <a:lnTo>
                  <a:pt x="1400" y="1400"/>
                </a:lnTo>
                <a:close/>
              </a:path>
              <a:path fill="darken" w="91160" h="21600">
                <a:moveTo>
                  <a:pt x="91160" y="0"/>
                </a:moveTo>
                <a:lnTo>
                  <a:pt x="91160" y="21600"/>
                </a:lnTo>
                <a:lnTo>
                  <a:pt x="89760" y="20200"/>
                </a:lnTo>
                <a:lnTo>
                  <a:pt x="89760" y="1400"/>
                </a:lnTo>
                <a:close/>
              </a:path>
              <a:path fill="darkenLess" w="91160" h="21600">
                <a:moveTo>
                  <a:pt x="91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60" y="20200"/>
                </a:lnTo>
                <a:close/>
              </a:path>
              <a:path fill="lighten" w="91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Buton acțiune: Particularizare 4"/>
          <p:cNvSpPr/>
          <p:nvPr/>
        </p:nvSpPr>
        <p:spPr>
          <a:xfrm>
            <a:off x="228600" y="4648320"/>
            <a:ext cx="2057400" cy="685800"/>
          </a:xfrm>
          <a:custGeom>
            <a:avLst/>
            <a:gdLst>
              <a:gd name="textAreaLeft" fmla="*/ 44280 w 2057400"/>
              <a:gd name="textAreaRight" fmla="*/ 2013120 w 2057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4777" h="21600">
                <a:moveTo>
                  <a:pt x="0" y="0"/>
                </a:moveTo>
                <a:lnTo>
                  <a:pt x="64777" y="0"/>
                </a:lnTo>
                <a:lnTo>
                  <a:pt x="64777" y="21600"/>
                </a:lnTo>
                <a:lnTo>
                  <a:pt x="0" y="21600"/>
                </a:lnTo>
                <a:close/>
              </a:path>
              <a:path fill="lightenLess" w="64777" h="21600">
                <a:moveTo>
                  <a:pt x="0" y="0"/>
                </a:moveTo>
                <a:lnTo>
                  <a:pt x="64777" y="0"/>
                </a:lnTo>
                <a:lnTo>
                  <a:pt x="63377" y="1400"/>
                </a:lnTo>
                <a:lnTo>
                  <a:pt x="1400" y="1400"/>
                </a:lnTo>
                <a:close/>
              </a:path>
              <a:path fill="darken" w="64777" h="21600">
                <a:moveTo>
                  <a:pt x="64777" y="0"/>
                </a:moveTo>
                <a:lnTo>
                  <a:pt x="64777" y="21600"/>
                </a:lnTo>
                <a:lnTo>
                  <a:pt x="63377" y="20200"/>
                </a:lnTo>
                <a:lnTo>
                  <a:pt x="63377" y="1400"/>
                </a:lnTo>
                <a:close/>
              </a:path>
              <a:path fill="darkenLess" w="64777" h="21600">
                <a:moveTo>
                  <a:pt x="64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77" y="20200"/>
                </a:lnTo>
                <a:close/>
              </a:path>
              <a:path fill="lighten" w="64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Buton acțiune: Particularizare 5"/>
          <p:cNvSpPr/>
          <p:nvPr/>
        </p:nvSpPr>
        <p:spPr>
          <a:xfrm>
            <a:off x="1066680" y="556272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9976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ătăl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Buton acțiune: Particularizare 6"/>
          <p:cNvSpPr/>
          <p:nvPr/>
        </p:nvSpPr>
        <p:spPr>
          <a:xfrm>
            <a:off x="3733920" y="5562720"/>
            <a:ext cx="2514600" cy="685800"/>
          </a:xfrm>
          <a:custGeom>
            <a:avLst/>
            <a:gdLst>
              <a:gd name="textAreaLeft" fmla="*/ 44280 w 2514600"/>
              <a:gd name="textAreaRight" fmla="*/ 2470320 w 2514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9170" h="21600">
                <a:moveTo>
                  <a:pt x="0" y="0"/>
                </a:moveTo>
                <a:lnTo>
                  <a:pt x="79170" y="0"/>
                </a:lnTo>
                <a:lnTo>
                  <a:pt x="79170" y="21600"/>
                </a:lnTo>
                <a:lnTo>
                  <a:pt x="0" y="21600"/>
                </a:lnTo>
                <a:close/>
              </a:path>
              <a:path fill="lightenLess" w="79170" h="21600">
                <a:moveTo>
                  <a:pt x="0" y="0"/>
                </a:moveTo>
                <a:lnTo>
                  <a:pt x="79170" y="0"/>
                </a:lnTo>
                <a:lnTo>
                  <a:pt x="77770" y="1400"/>
                </a:lnTo>
                <a:lnTo>
                  <a:pt x="1400" y="1400"/>
                </a:lnTo>
                <a:close/>
              </a:path>
              <a:path fill="darken" w="79170" h="21600">
                <a:moveTo>
                  <a:pt x="79170" y="0"/>
                </a:moveTo>
                <a:lnTo>
                  <a:pt x="79170" y="21600"/>
                </a:lnTo>
                <a:lnTo>
                  <a:pt x="77770" y="20200"/>
                </a:lnTo>
                <a:lnTo>
                  <a:pt x="77770" y="1400"/>
                </a:lnTo>
                <a:close/>
              </a:path>
              <a:path fill="darkenLess" w="79170" h="21600">
                <a:moveTo>
                  <a:pt x="79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0" y="20200"/>
                </a:lnTo>
                <a:close/>
              </a:path>
              <a:path fill="lighten" w="79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 </a:t>
            </a: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Excelenţa s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Buton acțiune: Particularizare 7"/>
          <p:cNvSpPr/>
          <p:nvPr/>
        </p:nvSpPr>
        <p:spPr>
          <a:xfrm>
            <a:off x="2514600" y="4724280"/>
            <a:ext cx="2895480" cy="685800"/>
          </a:xfrm>
          <a:custGeom>
            <a:avLst/>
            <a:gdLst>
              <a:gd name="textAreaLeft" fmla="*/ 44280 w 2895480"/>
              <a:gd name="textAreaRight" fmla="*/ 2851200 w 2895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60" h="21600">
                <a:moveTo>
                  <a:pt x="0" y="0"/>
                </a:moveTo>
                <a:lnTo>
                  <a:pt x="91160" y="0"/>
                </a:lnTo>
                <a:lnTo>
                  <a:pt x="91160" y="21600"/>
                </a:lnTo>
                <a:lnTo>
                  <a:pt x="0" y="21600"/>
                </a:lnTo>
                <a:close/>
              </a:path>
              <a:path fill="lightenLess" w="91160" h="21600">
                <a:moveTo>
                  <a:pt x="0" y="0"/>
                </a:moveTo>
                <a:lnTo>
                  <a:pt x="91160" y="0"/>
                </a:lnTo>
                <a:lnTo>
                  <a:pt x="89760" y="1400"/>
                </a:lnTo>
                <a:lnTo>
                  <a:pt x="1400" y="1400"/>
                </a:lnTo>
                <a:close/>
              </a:path>
              <a:path fill="darken" w="91160" h="21600">
                <a:moveTo>
                  <a:pt x="91160" y="0"/>
                </a:moveTo>
                <a:lnTo>
                  <a:pt x="91160" y="21600"/>
                </a:lnTo>
                <a:lnTo>
                  <a:pt x="89760" y="20200"/>
                </a:lnTo>
                <a:lnTo>
                  <a:pt x="89760" y="1400"/>
                </a:lnTo>
                <a:close/>
              </a:path>
              <a:path fill="darkenLess" w="91160" h="21600">
                <a:moveTo>
                  <a:pt x="91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60" y="20200"/>
                </a:lnTo>
                <a:close/>
              </a:path>
              <a:path fill="lighten" w="91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CasetăText 3"/>
          <p:cNvSpPr/>
          <p:nvPr/>
        </p:nvSpPr>
        <p:spPr>
          <a:xfrm>
            <a:off x="423720" y="3048120"/>
            <a:ext cx="7651440" cy="947160"/>
          </a:xfrm>
          <a:prstGeom prst="rect">
            <a:avLst/>
          </a:prstGeom>
          <a:solidFill>
            <a:srgbClr val="454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Mergem în excursie cu doamna învăţăto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……………………</a:t>
            </a: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va fi ghidul nos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Buton acțiune: Particularizare 4"/>
          <p:cNvSpPr/>
          <p:nvPr/>
        </p:nvSpPr>
        <p:spPr>
          <a:xfrm>
            <a:off x="3733920" y="42670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ăria 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Buton acțiune: Particularizare 5"/>
          <p:cNvSpPr/>
          <p:nvPr/>
        </p:nvSpPr>
        <p:spPr>
          <a:xfrm>
            <a:off x="457200" y="5867280"/>
            <a:ext cx="2590920" cy="685800"/>
          </a:xfrm>
          <a:custGeom>
            <a:avLst/>
            <a:gdLst>
              <a:gd name="textAreaLeft" fmla="*/ 44280 w 2590920"/>
              <a:gd name="textAreaRight" fmla="*/ 2546640 w 2590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81572" h="21600">
                <a:moveTo>
                  <a:pt x="0" y="0"/>
                </a:moveTo>
                <a:lnTo>
                  <a:pt x="81572" y="0"/>
                </a:lnTo>
                <a:lnTo>
                  <a:pt x="81572" y="21600"/>
                </a:lnTo>
                <a:lnTo>
                  <a:pt x="0" y="21600"/>
                </a:lnTo>
                <a:close/>
              </a:path>
              <a:path fill="lightenLess" w="81572" h="21600">
                <a:moveTo>
                  <a:pt x="0" y="0"/>
                </a:moveTo>
                <a:lnTo>
                  <a:pt x="81572" y="0"/>
                </a:lnTo>
                <a:lnTo>
                  <a:pt x="80172" y="1400"/>
                </a:lnTo>
                <a:lnTo>
                  <a:pt x="1400" y="1400"/>
                </a:lnTo>
                <a:close/>
              </a:path>
              <a:path fill="darken" w="81572" h="21600">
                <a:moveTo>
                  <a:pt x="81572" y="0"/>
                </a:moveTo>
                <a:lnTo>
                  <a:pt x="81572" y="21600"/>
                </a:lnTo>
                <a:lnTo>
                  <a:pt x="80172" y="20200"/>
                </a:lnTo>
                <a:lnTo>
                  <a:pt x="80172" y="1400"/>
                </a:lnTo>
                <a:close/>
              </a:path>
              <a:path fill="darkenLess" w="81572" h="21600">
                <a:moveTo>
                  <a:pt x="81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172" y="20200"/>
                </a:lnTo>
                <a:close/>
              </a:path>
              <a:path fill="lighten" w="81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omnia voastr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Buton acțiune: Particularizare 6">
            <a:hlinkClick r:id="rId1"/>
          </p:cNvPr>
          <p:cNvSpPr/>
          <p:nvPr/>
        </p:nvSpPr>
        <p:spPr>
          <a:xfrm>
            <a:off x="5867280" y="4343400"/>
            <a:ext cx="2895840" cy="685800"/>
          </a:xfrm>
          <a:custGeom>
            <a:avLst/>
            <a:gdLst>
              <a:gd name="textAreaLeft" fmla="*/ 44280 w 2895840"/>
              <a:gd name="textAreaRight" fmla="*/ 2851560 w 2895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71" h="21600">
                <a:moveTo>
                  <a:pt x="0" y="0"/>
                </a:moveTo>
                <a:lnTo>
                  <a:pt x="91171" y="0"/>
                </a:lnTo>
                <a:lnTo>
                  <a:pt x="91171" y="21600"/>
                </a:lnTo>
                <a:lnTo>
                  <a:pt x="0" y="21600"/>
                </a:lnTo>
                <a:close/>
              </a:path>
              <a:path fill="lightenLess" w="91171" h="21600">
                <a:moveTo>
                  <a:pt x="0" y="0"/>
                </a:moveTo>
                <a:lnTo>
                  <a:pt x="91171" y="0"/>
                </a:lnTo>
                <a:lnTo>
                  <a:pt x="89771" y="1400"/>
                </a:lnTo>
                <a:lnTo>
                  <a:pt x="1400" y="1400"/>
                </a:lnTo>
                <a:close/>
              </a:path>
              <a:path fill="darken" w="91171" h="21600">
                <a:moveTo>
                  <a:pt x="91171" y="0"/>
                </a:moveTo>
                <a:lnTo>
                  <a:pt x="91171" y="21600"/>
                </a:lnTo>
                <a:lnTo>
                  <a:pt x="89771" y="20200"/>
                </a:lnTo>
                <a:lnTo>
                  <a:pt x="89771" y="1400"/>
                </a:lnTo>
                <a:close/>
              </a:path>
              <a:path fill="darkenLess" w="91171" h="21600">
                <a:moveTo>
                  <a:pt x="91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71" y="20200"/>
                </a:lnTo>
                <a:close/>
              </a:path>
              <a:path fill="lighten" w="91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Buton acțiune: Particularizare 7"/>
          <p:cNvSpPr/>
          <p:nvPr/>
        </p:nvSpPr>
        <p:spPr>
          <a:xfrm>
            <a:off x="380880" y="4876920"/>
            <a:ext cx="2895840" cy="685800"/>
          </a:xfrm>
          <a:custGeom>
            <a:avLst/>
            <a:gdLst>
              <a:gd name="textAreaLeft" fmla="*/ 44280 w 2895840"/>
              <a:gd name="textAreaRight" fmla="*/ 2851560 w 2895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71" h="21600">
                <a:moveTo>
                  <a:pt x="0" y="0"/>
                </a:moveTo>
                <a:lnTo>
                  <a:pt x="91171" y="0"/>
                </a:lnTo>
                <a:lnTo>
                  <a:pt x="91171" y="21600"/>
                </a:lnTo>
                <a:lnTo>
                  <a:pt x="0" y="21600"/>
                </a:lnTo>
                <a:close/>
              </a:path>
              <a:path fill="lightenLess" w="91171" h="21600">
                <a:moveTo>
                  <a:pt x="0" y="0"/>
                </a:moveTo>
                <a:lnTo>
                  <a:pt x="91171" y="0"/>
                </a:lnTo>
                <a:lnTo>
                  <a:pt x="89771" y="1400"/>
                </a:lnTo>
                <a:lnTo>
                  <a:pt x="1400" y="1400"/>
                </a:lnTo>
                <a:close/>
              </a:path>
              <a:path fill="darken" w="91171" h="21600">
                <a:moveTo>
                  <a:pt x="91171" y="0"/>
                </a:moveTo>
                <a:lnTo>
                  <a:pt x="91171" y="21600"/>
                </a:lnTo>
                <a:lnTo>
                  <a:pt x="89771" y="20200"/>
                </a:lnTo>
                <a:lnTo>
                  <a:pt x="89771" y="1400"/>
                </a:lnTo>
                <a:close/>
              </a:path>
              <a:path fill="darkenLess" w="91171" h="21600">
                <a:moveTo>
                  <a:pt x="91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71" y="20200"/>
                </a:lnTo>
                <a:close/>
              </a:path>
              <a:path fill="lighten" w="91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voast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Buton acțiune: Particularizare 8"/>
          <p:cNvSpPr/>
          <p:nvPr/>
        </p:nvSpPr>
        <p:spPr>
          <a:xfrm>
            <a:off x="3733920" y="51055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9976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a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Buton acțiune: Particularizare 9"/>
          <p:cNvSpPr/>
          <p:nvPr/>
        </p:nvSpPr>
        <p:spPr>
          <a:xfrm>
            <a:off x="3733920" y="6019920"/>
            <a:ext cx="1676160" cy="685800"/>
          </a:xfrm>
          <a:custGeom>
            <a:avLst/>
            <a:gdLst>
              <a:gd name="textAreaLeft" fmla="*/ 44280 w 1676160"/>
              <a:gd name="textAreaRight" fmla="*/ 1631880 w 1676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76" h="21600">
                <a:moveTo>
                  <a:pt x="0" y="0"/>
                </a:moveTo>
                <a:lnTo>
                  <a:pt x="52776" y="0"/>
                </a:lnTo>
                <a:lnTo>
                  <a:pt x="52776" y="21600"/>
                </a:lnTo>
                <a:lnTo>
                  <a:pt x="0" y="21600"/>
                </a:lnTo>
                <a:close/>
              </a:path>
              <a:path fill="lightenLess" w="52776" h="21600">
                <a:moveTo>
                  <a:pt x="0" y="0"/>
                </a:moveTo>
                <a:lnTo>
                  <a:pt x="52776" y="0"/>
                </a:lnTo>
                <a:lnTo>
                  <a:pt x="51376" y="1400"/>
                </a:lnTo>
                <a:lnTo>
                  <a:pt x="1400" y="1400"/>
                </a:lnTo>
                <a:close/>
              </a:path>
              <a:path fill="darken" w="52776" h="21600">
                <a:moveTo>
                  <a:pt x="52776" y="0"/>
                </a:moveTo>
                <a:lnTo>
                  <a:pt x="52776" y="21600"/>
                </a:lnTo>
                <a:lnTo>
                  <a:pt x="51376" y="20200"/>
                </a:lnTo>
                <a:lnTo>
                  <a:pt x="51376" y="1400"/>
                </a:lnTo>
                <a:close/>
              </a:path>
              <a:path fill="darkenLess" w="52776" h="21600">
                <a:moveTo>
                  <a:pt x="5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76" y="20200"/>
                </a:lnTo>
                <a:close/>
              </a:path>
              <a:path fill="lighten" w="5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9976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ătăluţ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Buton acțiune: Particularizare 11"/>
          <p:cNvSpPr/>
          <p:nvPr/>
        </p:nvSpPr>
        <p:spPr>
          <a:xfrm>
            <a:off x="5867280" y="5257800"/>
            <a:ext cx="2057400" cy="685800"/>
          </a:xfrm>
          <a:custGeom>
            <a:avLst/>
            <a:gdLst>
              <a:gd name="textAreaLeft" fmla="*/ 44280 w 2057400"/>
              <a:gd name="textAreaRight" fmla="*/ 2013120 w 2057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4777" h="21600">
                <a:moveTo>
                  <a:pt x="0" y="0"/>
                </a:moveTo>
                <a:lnTo>
                  <a:pt x="64777" y="0"/>
                </a:lnTo>
                <a:lnTo>
                  <a:pt x="64777" y="21600"/>
                </a:lnTo>
                <a:lnTo>
                  <a:pt x="0" y="21600"/>
                </a:lnTo>
                <a:close/>
              </a:path>
              <a:path fill="lightenLess" w="64777" h="21600">
                <a:moveTo>
                  <a:pt x="0" y="0"/>
                </a:moveTo>
                <a:lnTo>
                  <a:pt x="64777" y="0"/>
                </a:lnTo>
                <a:lnTo>
                  <a:pt x="63377" y="1400"/>
                </a:lnTo>
                <a:lnTo>
                  <a:pt x="1400" y="1400"/>
                </a:lnTo>
                <a:close/>
              </a:path>
              <a:path fill="darken" w="64777" h="21600">
                <a:moveTo>
                  <a:pt x="64777" y="0"/>
                </a:moveTo>
                <a:lnTo>
                  <a:pt x="64777" y="21600"/>
                </a:lnTo>
                <a:lnTo>
                  <a:pt x="63377" y="20200"/>
                </a:lnTo>
                <a:lnTo>
                  <a:pt x="63377" y="1400"/>
                </a:lnTo>
                <a:close/>
              </a:path>
              <a:path fill="darkenLess" w="64777" h="21600">
                <a:moveTo>
                  <a:pt x="64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77" y="20200"/>
                </a:lnTo>
                <a:close/>
              </a:path>
              <a:path fill="lighten" w="64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 </a:t>
            </a: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Înălţimea t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6" descr="Picture55"/>
          <p:cNvPicPr/>
          <p:nvPr/>
        </p:nvPicPr>
        <p:blipFill>
          <a:blip r:embed="rId2"/>
          <a:stretch/>
        </p:blipFill>
        <p:spPr>
          <a:xfrm>
            <a:off x="914400" y="0"/>
            <a:ext cx="72388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6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6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4:58:56Z</dcterms:created>
  <dc:creator>Mioara</dc:creator>
  <dc:description/>
  <dc:language>en-US</dc:language>
  <cp:lastModifiedBy>Mioara</cp:lastModifiedBy>
  <dcterms:modified xsi:type="dcterms:W3CDTF">2009-02-23T17:58:06Z</dcterms:modified>
  <cp:revision>34</cp:revision>
  <dc:subject/>
  <dc:title>Diapozitivul 1</dc:title>
</cp:coreProperties>
</file>